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move the slide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30EDD-8D37-496F-B02A-E9852B5AF90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5112E-8569-4B23-AC0F-EF6F889A35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5. Zgodność z Miejskim planem adaptacji do zmian klimatu (MPA) - Opcja dla wnioskodawców o statusie gminy miejskiej bądź miejsko-wiejskiej posiadających MP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ie podlega czy projekt wpisuje się w działania kompleksowo dostosowujące miasta do zmian klimatu w zakresie ekstremalnych stanów pogodowych oraz łagodzące efekt miejskich wysp ciepła, które zostały wskazane w MP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 Miejskim planie adaptacji do zmian klimatu (link do dokumentu w W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ternatywnie dla wnioskodawców o statusie gminy miejskiej bądź miejsko-wiejskiej nieposiadających MPA ocenie podlega cz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wnioskodawca przystąpił do opracowania Miejskiego planu adaptacji do zmian klimatu i zobowiązał się do zapewnienia udziału społeczeństw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przed rozpoczęciem działań inwestycyjnych w projekcie wnioskodawca zapewnił aktywny udział lokalnej społeczności (w tym organizacji społecznych i ekologicznych) i innych interesariuszy w fazie planowania/przygotowania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y w pkt 1) dokonuje się na podstawie uchwały rady miasta w sprawie przystąpienia do opracowania MP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y pkt 2) dokonuje się na podstawie informacji zawartych we wniosku o dofinansowanie oraz oświadczeniach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oskodawców nieposiadających MPA uzyskanie 1 pkt w tym kryterium możliwe jest gdy spełniono łącznie warunki w pkt 1) oraz pkt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gmin wiejskich - miejscowości o statusie uzdrowiska bądź obszaru ochrony uzdrowiskowej - wymagane jest wykazanie, aby zasadność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izacji projektu wynikała z dostępnych i aktualnych dokumentów innych niż MPA.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6. Identyfikacja stanu istniejącego. Ocenie podlega czy w trakcie przygotowania projektu wykonano/ wykorzystan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inwentaryzację systemu zagospodarowania wód opadowych, w tym dane na temat długości sieci wraz z rozbiciem na średnice, ilości oraz położenia wylotów, pojemności zbiorników wodnyc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inwentaryzację terenów zielen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inwentaryzację powierzchni uszczelnionych lub zasklepionyc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mapy glebowe lub inne dane dotyczące przepuszczalności terenów zlewn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identyfikację obszarów wrażliwych na podtopie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inwestycje w zakresie zagospodarowania wód w zlewniach miejskich, dla spełnienia kryterium wymagane jest wykonanie co najmniej inwentaryzacji/wykorzystanie zasobów w ramach pkt 1, 3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inwestycje w zakresie zakładania zielono-niebieskiej i niebieskiej infrastruktury, wymagane jest wykonanie inwentaryzacji w ramach pkt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zarówno inwestycje w zakresie zagospodarowania wód w zlewniach miejskich jak i inwestycje w zakresie zakładania zielono-niebieskiej infrastruktury, wymagane jest wykonanie wszystkich inwentaryzacji/wykorzystanie zasobów w ramach pkt 1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7 Zielona i zielono-niebieska infrastruktura oraz rozwiązania oparte na przyrodzie. Ocenie podlegać będzie, czy w ramach projektu podjęte zostaną działania mające na celu spowolnienie /zatrzymanie odpływu wody opadowej przy wykorzystaniu zielonej i zielono – niebieskiej infrastruktury oraz przy wykorzystaniu rozwiązań opartych na przyrodz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. Przygotowanie projektu do realizacji. Ocenie podlega czy na moment złożenia wniosku o dofinansowanie wartość zadań inwestycyjnych posiadających pozwolenia na budowę/decyzje o pozwoleniu na realizację inwestycji w stosunku do wartości wszystkich zadań wymagających pozwoleń na budowę/decyzji o pozwoleniu na realizację inwestycji w zaokrągleniu do pełnego procenta wynos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- 0 % - 40 % lub nie opracowano P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– 41 % – 50 % lub opracowano P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51 % – 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61 % – 7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 pkt. – 71 % – 8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 pkt. – 81 % – 9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 pkt. – 91 % –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 typu: Opracowanie/aktualizacja Miejskich planów adaptacji do zmian klimatu – MPA ocenie podlega zaawansowanie procedury wyboru wykonawcy MPA na moment złożenia wniosku o dofinansowanie. Projekt otrzy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nie ogłoszono postępowania na wybór wykonawcy MP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ogłoszono postępowania na wybór wykonawcy MP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zawarto umowę z wykonawcą MPA. Ocena na podstawie informacji zawartych we wniosku o dofinansowanie i załącznik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 Zatrzymanie i retencjonowanie wód w zlewniach miejskich. Ocenie podlega czy projekt dotyczy zatrzymania i retencjonowania wód opadowych w miejscach ich powstawania, a tym samym opóźnienia ich odpływ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ie będzie podlegać czy zatrzymanie i retencjonowanie wód opadowych w miejscach ich powstawania dotyczy co najmniej 5% powierzchni objętej projektem. Próg co najmniej 5% powierzchni terenu objętego przewidywanym zagospodarowaniem wód w zlewniach miejskich w stosunku do całej powierzchni terenu objętej projektem to wymóg niezbędny do uzyskania 1 p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0. Procentowy wzrost udziału terenów zielonych spełniających funkcje ekologiczne na obszarze projektu. Ocenie podlega procentowy wzrost udziału terenów zielonych, spełniających funkcje ekologiczne na obszarze projektu, przy czym niedopuszczalne jest finansowanie w ramach projektu działań przyczyniających się do rozwoju, wzrostu lub utrzymania gatunków inwazyjnych oraz wprowadzania do środowiska gatunków obcych i inwazyjnych. 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3 pkt.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udział powierzchni projektowanych terenów zielonych spełniających funkcje ekologiczne na obszarze projektu w całkowitej powierzchni obszaru objętego projektem wynosi &lt;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udział powierzchni projektowanych terenów zielonych spełniających funkcje ekologiczne na obszarze projektu w całkowitej powierzchni obszaru objętego projektem mieści się w przedziale 5-29% całkowitej powierzchni obszar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udział powierzchni projektowanych terenów zielonych spełniających funkcje ekologiczne na obszarze projektu w całkowitej powierzchni obszaru objętego projektem mieści się w przedziale 30-49% całkowitej powierzchni obszar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udział powierzchni projektowanych terenów zielonych spełniających funkcje ekologiczne na obszarze projektu w całkowitej powierzchni obszaru objętego projektem mieści się w przedziale 50-100% całkowitej powierzchni obszaru objętego projek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A36C8-C898-43AA-88F2-3054D6EAC6E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 Ocenie podlega proporcja powierzchni terenu objętego projektem, z której wody opadowe zagospodarowano metodami naturalnymi lub bazującymi na naturalnych, wykorzystujące naturalną zdolność retencji, zagospodarowania, samooczyszczania oraz odprowadzania wód opadowych danego terenu, np. rowy odwadniające w terenie podmokłym, muldy, zbiorniki odparowujące i sedymentacyjne, itd. Dopuszczalne w tym zakresie są również rozwiązania semi-naturalne bazujące na lub imitujące metody naturalne, w szczególności oparte na zasadach ekohydrologii, np. obiekty hydrofitowe oczyszczania wód opadowych, strefy ekotonowe przy brzegach cieków, zbiorników i stawów sedymentacyjnych, ogrody deszczowe, zielone dachy, pasaże roślinne, rozwiązania uwzględniające różnorodność biologiczną, itd. W kryterium wpisują się również działania w zakresie rewitalizacji (renaturyzacji) cieków wodnych znajdujących się w zlewni miejski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óg co najmniej 20% powierzchni terenu objętego projektem, z której wody opadowe zagospodarowano metodami naturalnymi lub bazującymi na naturalnych, to wymóg niezbędny do uzyskania 1 pk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2. Optymalizacja zagospodarowania wód opadowych. Ocenie podlega czy zastosowano następujące elementy zagospodarowania wód opadowych, zgodnie z poniższą hierarchi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tencja w miejscu opadu – np. w nieckach terenowych, ogrodach deszczowych, zastosowanie zieleni retencyjnej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retencja terenowa – suche zbiorniki lub parki retencyjne, naturalne mokradła, tereny zielone z przygotowaniem do okresowych podtopień jak ogrody deszczowe, płytkie muldy i niecki trawiaste, retencja w zieleni miejskiej, rozsączanie wód opadowych do gruntu (studnie chłonne, zbiorniki rozsączające etc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retencja zbiornikowa – zbiorniki retencyjne (budowle hydrotechniczne) - zbiorniki otwarte z infiltracją i zielenią, stawy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retencja zbiornikowa – zbiorniki retencyjne (budowle hydrotechniczne) - zbiorniki otwarte bez infiltracji i zielen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retencja zbiornikowa – zbiorniki retencyjne (budowle hydrotechniczne) - zbiorniki podziem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3. Wielofunkcyjność zbiorników wodnych. Ocenie podlega wielofunkcyjność zbiorników wodnych: mokrych lub półsuchych, tj. czy poza funkcją retencyjną spełniają również inne funkc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przyrodnicze, dydaktyczne, itp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zagospodarowują wody opadowe do celów użyteczności publiczn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4. Ocenie podlega wykorzystanie do sporządzenia rzetelnego bilansu wód opadowych na terenie zlewni miejskich z wykorzystani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danych z kampanii pomiarowej dotyczących opadów deszczu i poziomów wypełnienia (przepływu) kanałów otwartych, zamkniętych i odbiorników wód opadowych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ortofotomapy i numerycznego modelu teren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map glebowych oraz/lub innych danych dotyczących przepuszczalności terenów zlewni i powierzchni przepuszczalnych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kaningu laserowego powierzchni przepuszczalnych lub metod równoważnych oceny przepuszczalności teren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modelowania opadowego oraz hydrodynamicznego z/bez symulacji zmian klimatu, uwzględniającego zmiany klimatu zgodnie ze scenariuszem 4,5 C oraz 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wyników numerycznych (w tym komputerowych) modeli opadowych oraz hydrodynamicznych, umożliwiających zidentyfikowanie obszarów zagrożonych podtopieniami i bezodpływowych. Powyższe dane są niezbędne do jednoznacznej identyfikacji zlewni oraz określenia przepuszczalności terenów zlewni, a w efekcie właściwego określenia bilansu wód opadowych oraz terenów narażonych na lokalne podtopienia i zal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5. Wykorzystanie wód opadowych. Ocenie podlega proporcja wykorzystanej objętości zretencjonowanych wód opadowych z terenu zlewni miejskiej objętej projektem, a konkretnie ich ponowne wykorzystanie d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zasilania fontann, zbiorników przeciwpożarowych, szaletów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chłodzenia lub zmywania powierzchni utwardzonych, w tym ulic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utrzymania zieleni (rozprowadzania i podlewania zieleni, w tym przez systemy rozsączają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 wykorzystanie wód opadowych uznaje się również ich rozsączanie do grun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6. Stopień otwartości systemu gospodarowania wodami opadowymi. Ocenie podlega stopień otwartości przewidzianego w projekcie systemu gospodarowania wodami opadowymi, zgodnie z poniższą hierarchi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otwarty system zagospodarowania wodami opadowymi, opierający się na ciekach i urządzeniach wodnych, będących częścią publicznej infrastruktury regulującej stosunki wodne (np. rowy, kanały, potoki, zbiorniki retencyjne na wodach płynących i rowach, itp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otwarty system kanalizacji deszczowej, w tym obiekty retencyjne, nie kształtujące zasobów wodnych, z których wody kierowane są do zasilania zieleni (w dalszej kolejności nadmiar wód może być kierowany do zamkniętego systemu kanalizacji deszczowej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otwarty system kanalizacji deszczowej, w tym obiekty retencyjne, niekształtujące zasobów wodnych, z których wody kierowane są do wykorzystania na inne cele niż zasilanie zieleni, a nadmiar wód może być kierowany do zamkniętego systemu kanalizacji deszczowej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zamknięta sieć kanalizacji deszczowej z towarzyszącymi obiektami (np. wpusty, rurociągi, studzienki, zbiorniki wyrównujące przepływ). Zastosowanie kanalizacji zamkniętej powinno zostać każdorazowo uzasadnione w kontekście celów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38999-6FBB-426A-98C0-F11FDEB51C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wnioskodawców nieposiadających MPA uzyskanie 1 pkt w tym kryterium możliwe jest gdy spełniono łącznie warunki w pkt 1) oraz pkt 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gmin wiejskich - miejscowości o statusie uzdrowiska bądź obszaru ochrony uzdrowiskowej - wymagane jest wykazanie, aby zasadnoś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izacji projektu wynikała z dostępnych i aktualnych dokumentach inny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 albo 1 pkt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projekt nie wynika z MPA (dla wnioskodawców posiadających MPA)  albo nie przyjęto uchwały w sprawie przystąpienia do opracowania MPA 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zapewniono aktywnego udziału społeczności i interesariuszy w fazie planowania/przygotowania projektu (dla wnioskodawców nieposiadający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PA), a w przypadku gmin wiejskich - miejscowości o statusie uzdrowiska bądź obszaru ochrony uzdrowiskowej – nie wykazano zasadności realizacj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jektu w dostępnych i aktualnych dokumentach innych niż MP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projekt wynika z MPA (dla wnioskodawców posiadających MPA) albo  przyjęto uchwałę w sprawie przystąpienia do opracowania MPA ora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pewniono aktywny udział społeczności i interesariuszy w fazie  planowania/przygotowania projektu (dla wnioskodawców nieposiadających MPA), a w przypadku gmin wiejskich – miejscowości o statusie uzdrowiska  bądź obszaru ochrony uzdrowiskowej – wykazano, że zasadność realizacji projektu wynika z dostępnych i aktualnych dokumentów innych niż MP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7DDFA-FD72-40FA-B727-5101D46471D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inwestycje w zakresie  zagospodarowania wód w zlewniach miejskich, dla spełnienia kryteri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magane jest wykonanie co najmniej inwentaryzacji/wykorzystanie, zasobów w ramach pkt 1, 3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inwestycje w zakresie zakładania zielono-niebieskiej i niebieskiej infrastruktury, wymagane jest wykonan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wentaryzacji w ramach pkt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la projektów, w których przewidziano zarówno inwestycje w zakresie  zagospodarowania wód w zlewniach miejskich jak i inwestycje w zakresie  zakładania zielono-niebieskiej infrastruktury, wymagane jest wykonanie  wszystkich inwentaryzacji/wykorzystanie zasobów w ramach pkt 1-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 albo 1 pkt., przy czym: 0 pkt. – w trakcie przygotowania projektu, w którym przewidziano  inwestycje w zakresie zagospodarowania wód w zlewniach miejskich, nie wykonano wszystkich inwentaryzacji/nie wykorzystano zasobów w ramach  co najmniej pkt 1, 3-5 i/albo w trakcie przygotowania projektu, w którym przewidziano inwestycje w zakresie zakładania zielono-niebieskiej infrastruktury nie wykonano inwentaryzacji w ramach pkt 2. 1 pkt – w trakcie przygotowania projektu, w którym przewidziano zarówno inwestycje w zakresie zagospodarowania wód w zlewniach miejskich, jak i zakładanie zielono-niebieskiej infrastruktury, wykonano wszystk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wentaryzacje/wykorzystano zasoby w ramach pkt 1-5 albo w trakcie przygotowania projektu, w którym przewidziano inwestycje w zakres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gospodarowania wód w zlewniach miejskich, wykonano co najmniej inwentaryzacje/wykorzystano zasoby w ramach pkt 1, 3-5 albo w trakci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ygotowania projektu, w którym przewidziano inwestycje w zakresie zakładania zielono-niebieskiej infrastruktury wykonano inwentaryzację 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mach pkt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2F4B8-0F1C-4DF3-B10E-CD743069E2A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8CCDF-1374-469B-9C30-6CF0AD52B0F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4 pkt.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zatrzymanie i retencjonowanie wód opadowych w miejscach ich  powstawiania dotyczy &lt; 5% powierzchni terenu objętej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zatrzymanie i retencjonowanie wód opadowych w miejscach ich powstawiania dotyczy 5-1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zatrzymanie i retencjonowanie wód opadowych w miejscach ich powstawiania dotyczy 20-3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- zatrzymanie i retencjonowanie wód opadowych w miejscach ich powstawiania dotyczy 40-5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 pkt. - zatrzymanie i retencjonowanie wód opadowych w miejscach ich powstawiania dotyczy 60-100% powierzchni terenu objętego projek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yterium rozstrzygają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5DAE9-E33B-4C92-9C85-22540982CDD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4 pkt.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zatrzymanie i retencjonowanie wód opadowych w miejscach ich  powstawiania dotyczy &lt; 5% powierzchni terenu objętej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zatrzymanie i retencjonowanie wód opadowych w miejscach ich powstawiania dotyczy 5-1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zatrzymanie i retencjonowanie wód opadowych w miejscach ich powstawiania dotyczy 20-3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- zatrzymanie i retencjonowanie wód opadowych w miejscach ich powstawiania dotyczy 40-59% powierzchni teren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 pkt. - zatrzymanie i retencjonowanie wód opadowych w miejscach ich powstawiania dotyczy 60-100% powierzchni terenu objętego projek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yterium rozstrzygają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C4A216-1644-4A2C-BEB7-5A7F7D3587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 albo 1 pkt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udział powierzchni projektowanej zielono-niebieskiej infrastruktury w całkowitej powierzchni obszaru objętego projektem wynosi &lt;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udział powierzchni projektowanej zielono-niebieskiej infrastruktury w całkowitej powierzchni obszaru objętego projektem mieści się 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ziale 5-29% całkowitej powierzchni obszar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udział powierzchni projektowanej zielono-niebieskiej infrastruktury  w całkowitej powierzchni obszaru objętego projektem mieści się 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ziale 30-49% całkowitej powierzchni obszaru objętego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udział powierzchni projektowanej zielono-niebieskiej infrastruktury  w całkowitej powierzchni obszaru objętego projektem mieści się 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zedziale 50-100% całkowitej powierzchni obszaru objętego projek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0B00CE-EC03-44C9-AED5-183DA8E600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óg co najmniej 20 % powierzchni terenu objętego projektem, z której wody opadowe zagospodarowano metodami naturalnymi lub bazującym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naturalnych, to wymóg niezbędny do uzyskania 1 pkt. 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3 pkt. przy czy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 - powierzchnia terenu objętego projektem, z której wody opadowe zagospodarowano metodami naturalnymi lub bazującymi na naturalny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nosi wynosi 0-19% lub projekt nie przewiduje takiego zakresu wsparc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powierzchnia terenu objętego projektem, z której wody opadowe zagospodarowano metodami naturalnymi lub bazującymi na naturalny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nosi 20-4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powierzchnia terenu objętego projektem, z której wody opadowe zagospodarowano metodami naturalnymi lub bazującymi na naturalny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nosi 50-69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powierzchnia terenu objętego projektem, z której wody opadowe zagospodarowano metodami naturalnymi lub bazującymi na naturalny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nosi 70-10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yterium rozstrzygają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88EC3-45D9-4217-B358-8425AA1A63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. Możliwe jest przyznanie 0-4 pkt.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w projekcie przewidziano rozwiązanie wymienione w pkt 5 bądź projekt nie przewiduje takiego zakresu wsparc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w projekcie przewidziano rozwiązanie wymienione w pkt 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w projekcie przewidziano rozwiązanie wymienione w pkt 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w projekcie przewidziano rozwiązanie wymienione w pkt 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 pkt. – w projekcie przewidziano rozwiązanie wymienione w pk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unkty w ramach powyższego kryterium sumują si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D254F9-24C7-48D2-8FD1-BFE6700F5BB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gospodarowanie wód opadowych w zlewniach miejskich (systemy mające za zadanie zapobieganie podtopieniom i zalaniom oraz ograniczanie skutków tych zjawisk, zwiększenie absorbcji wody w gruncie, spowolnienie odpływu oraz retencjonowanie wody opadowej wraz z systemami jej dystrybucji podczas suszy, co jest związane głównie z budową zrównoważonych systemów gospodarowania wodami opadowymi (w tym roztopowymi) z udziałem zieleni/zielono-niebieskiej infrastruktury/rozwiązań opartych na przyrodzie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kładanie zielono-niebieskiej infrastruktury w mieście (rozwój powierzchni pokrytych zielenią w miastach z udziałem rozwiązań z zakresu niebieskiej infrastruktury). Kosztem kwalifikowalnym w ramach ww. typu projektu jest opracowanie/aktualizacja Miejskich planów adaptacji do zmian klimatu  (MP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7699A-97EF-43E4-AD59-8952689E4A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3 pkt., przy czy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projekt nie przewiduje wielofunkcyjności zbiorników wodnych lub  projekt nie przewiduje takiego zakresu wsparcia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projekt przewiduje funkcję zbiorników wodnych scharakteryzowaną w pkt. 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projekt przewiduje funkcje zbiorników wodnych wymienione w pkt.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unkty w ramach powyższego kryterium sumują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039A6F-AA2E-465A-AF98-AD1AB77CBF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wyższe dane są niezbędne do jednoznacznej identyfikacji zlewni oraz określenia przepuszczalności terenów zlewni, a w efekcie właściwego określenia bilansu wód opadowych oraz terenów narażonych na lokalne podtopienia i zal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 Możliwe jest przyznanie 0-6 pkt., przy czy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brak wykorzystania którejkolwiek z metod/danych wyliczonych enumeratywnie w pkt. 1-6 definicji kryterium lub projekt nie przewiduj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kresu wsparcia, które wymagałoby zastosowania ww. narzędz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 1 pkt. za wykorzystanie każdej pojedynczej metody/danych wyliczonych enumeratywnie w pkt. 1-6 definicji kryte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unkty w ramach powyższego kryterium sumują si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358EE-158C-4C1F-81C3-6DDB1684DD0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 wykorzystanie wód opadowych uznaje się również ich rozsączanie do gruntu. 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3 pkt., przy czy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za wykorzystanie 0-14% objętości zretencjonowanych wód opadowych z terenu zlewni objętej projektem lub projekt nie przewiduje takiego zakresu wsparc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za wykorzystanie 15-29% objętości zretencjonowanych wód opadowych z terenu zlewni objętej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za wykorzystanie 30-49% objętości zretencjonowanych wód opadowych z terenu zlewni objętej projekte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za wykorzystanie 50-100% objętości zretencjonowanych wód opadowych z terenu zlewni objętej projek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23AB3-A5E1-420D-9D60-A87FB3A23D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az oświadczeniach wnioskodaw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żliwe jest przyznanie 0-3 pkt., przy czy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 pkt. – w projekcie przewidziano zastosowanie rozwiązania opisanego w pkt. 4 przy braku rozwiązań wskazanych w pozostałych punktach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 pkt – w projekcie przewidziano zastosowanie rozwiązania opisanego w pkt. 3 przy braku rozwiązań wskazanych w pkt. 1 i 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 pkt. – w projekcie przewidziano zastosowanie rozwiązania opisanego w pkt. 2 przy braku rozwiązań wskazanych w pkt. 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 pkt. – w projekcie przewidziano zastosowanie rozwiązania opisanego w pkt.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ADFFC-9150-438C-B784-A64D20C22F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E1F72-090B-4357-96AF-B1ECBA8177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8D606-37CF-49D0-ABC6-BCEA33141D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1B2C9-A75D-4628-B629-8295D9603C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Kwalifikowalność wnioskodawcy: Weryfikacji podlega czy wnioskodawca jest zgodny z typem beneficjenta określonym dla działania 2.2 w Szczegółowym opisie priorytetów FEPW 2021-2027 (SZOP), tj. czy wnioskodawca posiada status:1) miasta średniego tracącego funkcje społeczno-gospodarcze albo 2) miasta subregionalnego z podregionów z najwyższą kumulacją gmin zmarginalizowanych o liczbie mieszkańców z przedziału 20 – 100 tys., zlokalizowanego na obszarze Polski Wschodniej - zarówno w przypadku pkt 1) jak i pkt 2);bądź3) miejscowości o statusie uzdrowiska bądź obszaru ochrony uzdrowiskowej, zlokalizowanej na obszarze Polski Wschodniej(dopuszcza się udział miejscowości, dla których wszczęto procedurę uzyskania ww. statusów). Makroregion Polski Wschodniej to obszar regionów NUTS-2: lubelskiego, podkarpackiego, podlaskiego, świętokrzyskiego, warmińsko-mazurskiego, oraz mazowieckiego regionalnego. Weryfikacja według stanu na dzień złożenia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Komplementarność - Ocenie podlega cz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dołączono wszystkie wymagane załączniki zgodnie z instrukcją wypełniania wniosku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załączniki do wniosku są prawidłowo przygotowane, ważne (aktualne) i zgodne z odpowiednimi polskimi oraz unijnymi przepisami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przedstawiono spójne dane oraz tożsame założenia we wniosku o dofinansowanie oraz stosownych załącznikach do wnios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 i załącznik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Zakres wsparcia - Ocenie podlega czy zakres wsparcia projektu zachowuje zgodność ze szczegółowymi zasadami określonymi dla działania 2.2 w SzOP, tj. czy obejmuj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spójne i zintegrowane przedsięwzięcia infrastrukturalne, kompleksowo odziaływujące na dostosowanie dostosowujące miasta do zmian klimatu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opracowanie/aktualizację Miejskich planów adaptacji do zmian klimatu – MP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Kwalifikowalność wydatków w projekcie - Ocenie podlega czy wydatki zaplanowane w projekcie są zgodne z zapisami SzOP oraz katalogiem wydatków kwalifikowalnych określonych w regulaminie wyboru projektó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. Poprawność wskaźników projektu - Ocenie podlega czy wartości docelowe wskaźników projektu zadeklarowane i uzasadnione we wniosku o dofinansowanie są obiektywnie weryfikowalne, uzasadnione, realne i adekwatne do założeń projektu oraz przyczyniają się do osiągnięcia wartości wskaźników w FEP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 potwierdzenie tego wnioskodawca powinien wybrać wszystkie dostępne w naborze wskaźniki i wskaza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założenia i obliczenia, na podstawie których została określona wartość docelowa wskaźników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sposób weryfikacji osiągnięcia zaplanowanej wartości docelowej wskaźników w trakcie i po zakończeniu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7AEAAA-11D7-44CC-B26C-64F1681697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 Poprawność analizy finansowej i ekonomicznej- Ocenie podlega cz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) analiza finansowa i ekonomiczna zostały przeprowadzone prawidłow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) zakres i plan finansowy projektu odzwierciedlają najkorzystniejszą relację między kwotą wsparcia, podejmowanymi działaniami i osiąganymi celam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) wyliczenie poziomu dofinansowania przeprowadzono prawidłowo (zgodnie z zasadami dla danego typu projektu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w oparciu o zgodność z Wytycznymi w zakresie zagadnień związanych z przygotowaniem projektów inwestycyjnych na lata 2021-2027 (gdy mają zastosowanie) lub z Załącznikiem III (Metodyka przeprowadzania analizy kosztów i korzyści) do rozporządzenia wykonawczego Komisji (UE) nr 2015/207 z 20 stycznia 2015 r., rozporządzeniem delegowanym Komisji (UE) nr 480/2014 z dnia 3 marca 2014 r., Economic Appraisal Vademecum 2021-2027 - General Principles and Sector Applications ( z ang. Vademecum oceny ekonomicznej 2021-2027 - Ogólne zasady i zastosowania sektorowe) oraz Guide to cost-benefit Analysis of Investment Projects (z ang. Przewodnikiem do analizy kosztów i korzyści projektów inwestycyjnych) z grudnia 2014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rozbieżności pomiędzy ww. dokumentami, zastosowanie mają zasady z dokumentu o najpóźniejszej dacie publik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.Trwałość projektu - Ocenie podlega częś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finansowa projekt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deklarowane zasoby finansowe na realizację projektu są możliwe do zapewnienia i są wystarczające do sfinansowania kosztów projektu podczas jego realizacji, a następnie eksploatacji (ocena wstępna – niewymagająca weryfikacji w formie analizy finansowej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skumulowane przepływy pieniężne netto nie są ujemne w każdym roku analizy. Trwałość finansowa powinna zostać zbadana także w odniesieniu do wnioskodawcy/ operatora projektu. Wystąpienie skumulowanego ujemnego salda w rachunku przepływów pieniężnych nawet dla jednego roku w ramach okresu referencyjnego powoduje negatywną ocenę wniosku w tym aspekci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operacyjna projekt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wnioskodawca zamierza wykorzystywać produkty projektu zgodnie z przeznaczeniem oraz czy założone cele projektu zostaną w pełni osiągnię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została zapewniona przez wnioskodawcę we wniosku o dofinansowanie trwałość operacji. Zgodnie z zapisami art. 65 Rozporządzenia PE i Rady (UE) nr 2021/1060 kryterium trwałości operacji uważa się za niespełnione, jeżeli w okresie 5 lat od płatności końcowej na rzecz beneficjenta, zajdzie jakakolwiek z poniższych okolicznośc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) zmiana własności elementu infrastruktury, która daje przedsiębiorstwu lub podmiotowi publicznemu nienależną korzyś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) istotna zmiana wpływająca na charakter operacji, jej cele lub warunki wdrażania, mogąca doprowadzić do naruszenia pierwotnych celów. oper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 oraz załącznik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y uzyskać 1 pkt w ramach kryterium należy spełnić wszystkie wymagania zawarte w punktach 1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802ABB-4AEE-4837-A52D-56AD59A3C2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 Poprawność analizy finansowej i ekonomicznej- Ocenie podlega cz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) analiza finansowa i ekonomiczna zostały przeprowadzone prawidłowo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) zakres i plan finansowy projektu odzwierciedlają najkorzystniejszą relację między kwotą wsparcia, podejmowanymi działaniami i osiąganymi celam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) wyliczenie poziomu dofinansowania przeprowadzono prawidłowo (zgodnie z zasadami dla danego typu projektu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w oparciu o zgodność z Wytycznymi w zakresie zagadnień związanych z przygotowaniem projektów inwestycyjnych na lata 2021-2027 (gdy mają zastosowanie) lub z Załącznikiem III (Metodyka przeprowadzania analizy kosztów i korzyści) do rozporządzenia wykonawczego Komisji (UE) nr 2015/207 z 20 stycznia 2015 r., rozporządzeniem delegowanym Komisji (UE) nr 480/2014 z dnia 3 marca 2014 r., Economic Appraisal Vademecum 2021-2027 - General Principles and Sector Applications ( z ang. Vademecum oceny ekonomicznej 2021-2027 - Ogólne zasady i zastosowania sektorowe) oraz Guide to cost-benefit Analysis of Investment Projects (z ang. Przewodnikiem do analizy kosztów i korzyści projektów inwestycyjnych) z grudnia 2014 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przypadku rozbieżności pomiędzy ww. dokumentami, zastosowanie mają zasady z dokumentu o najpóźniejszej dacie publik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.Trwałość projektu - Ocenie podlega częś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finansowa projekt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deklarowane zasoby finansowe na realizację projektu są możliwe do zapewnienia i są wystarczające do sfinansowania kosztów projektu podczas jego realizacji, a następnie eksploatacji (ocena wstępna – niewymagająca weryfikacji w formie analizy finansowej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skumulowane przepływy pieniężne netto nie są ujemne w każdym roku analizy. Trwałość finansowa powinna zostać zbadana także w odniesieniu do wnioskodawcy/ operatora projektu. Wystąpienie skumulowanego ujemnego salda w rachunku przepływów pieniężnych nawet dla jednego roku w ramach okresu referencyjnego powoduje negatywną ocenę wniosku w tym aspekci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operacyjna projekt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wnioskodawca zamierza wykorzystywać produkty projektu zgodnie z przeznaczeniem oraz czy założone cele projektu zostaną w pełni osiągnię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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zy została zapewniona przez wnioskodawcę we wniosku o dofinansowanie trwałość operacji. Zgodnie z zapisami art. 65 Rozporządzenia PE i Rady (UE) nr 2021/1060 kryterium trwałości operacji uważa się za niespełnione, jeżeli w okresie 5 lat od płatności końcowej na rzecz beneficjenta, zajdzie jakakolwiek z poniższych okolicznośc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) zmiana własności elementu infrastruktury, która daje przedsiębiorstwu lub podmiotowi publicznemu nienależną korzyść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) istotna zmiana wpływająca na charakter operacji, jej cele lub warunki wdrażania, mogąca doprowadzić do naruszenia pierwotnych celów. operacj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ena na podstawie informacji zawartych we wniosku o dofinansowanie oraz załącznika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y uzyskać 1 pkt w ramach kryterium należy spełnić wszystkie wymagania zawarte w punktach 1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4EA2B-2633-452A-8E25-BB69D1FC960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. Projekt nie został zakończony przed złożeniem wniosku o dofinansowanie - Ocenie podlega czy inwestycja nie wyczerpuje przesłanek art. 63 ust. 6 rozporządzenia Parlamentu Europejskiego i Rady (UE) nr 2021/1060, tj. czy projekt nie został fizycznie ukończony bądź w pełni zrealizowany przed przedłożeniem do oceny wniosku o dofinansowanie, niezależnie od tego, czy wszystkie powiązane płatności zostały przez wnioskodawcę dokonane. Jako fizyczne ukończenie bądź pełną realizację projektu należy rozumieć podpisanie bezusterkowego protokołu odbioru w ramach ostatniego kontraktu na roboty bądź usłu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. Projekt został poddany ocenie oddziaływania na środowisko. Ocenie podlega czy w związku z: a) ustawą z dnia 3 października 2008 r. o udostępnianiu informacji o środowisku i jego ochronie, udziale społeczeństwa w ochronie środowiska oraz o ocenach oddziaływania na środowisko (Dz.U. z 2022 r. poz. 1029 z późn. zm.) i Dyrektywą Parlamentu Europejskiego i Rady 2011/92/UE z dnia 13 grudnia 2011 r. w sprawie oceny skutków wywieranych przez niektóre przedsięwzięcia publiczne i prywatne na środowisko; b) ustawą z dnia 16 kwietnia 2004 r. o ochronie przyrody (Dz.U. z 2022 r. poz. 916), ustawą z dnia 27 kwietnia 2001 r. Prawo ochrony środowiska (Dz.U. z 2020 r. poz. 1219 z późn. zm.), Dyrektywą Rady 92/43/EWG z dnia 21 maja 1992 r. w sprawie ochrony siedlisk przyrodniczych oraz dzikiej fauny i flory, i Dyrektywą 2009/147/WE z 30 listopada 2009 w sprawie ochrony dzikiego ptactwa; c) ustawą z dnia 20 lipca 2017 r. Prawo wodne (Dz. U. z 2022 r. poz. 2625 z późn. zm.) i Dyrektywą Parlamentu Europejskiego i Rady 2000/60/WE z dnia 23 października 2000 r. ustanawiająca ramy wspólnotowego działania w dziedzinie polityki wodnej; d) Wytycznymi w sprawie działań naprawczych w odniesieniu do projektów współfinansowanych w okresie programowania 2014 – 2020 oraz ubiegających się o współfinansowanie w okresie 2021 – 2027 z Funduszy UE, dotkniętych naruszeniem 2016/2046 w zakresie specustaw, dla których prowadzone jest postępowanie w sprawie oceny oddziaływania na środowisko (Ares(2021)1432319 z 23.02.2021r.). projekt podlegał ocenie oddziaływania na środowisko, tj. w szczególności: a) czy dla projektu wydano ostateczną/e decyzję/ decyzje o środowiskowych uwarunkowaniach obejmującą/e zakres projektu ujęty we wniosku o dofinansowanie (o ile dotyczy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) czy wzięto pod uwagę ocenę rozwiązań alternatywny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 Zgodność z zasadą zrównoważonego rozwoju, tym z zasadą „nie czyń poważnych szkód” (Do No Significant Harm). Ocenie podlega czy projekt spełnia ww. zasady przez zaplanowanie podczas realizacji właściwych rozwiązań stosownie do specyfiki projektu. Zgodnie z ww. zasadami wsparcie może być udzielone jedynie tak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jektom, które nie prowadzą do degradacji lub znacznego pogorszenia stanu środowiska naturalnego. Projekt jest zgodny z ww. zasadami, w szczególności jeśli wnioskodawca dołoży starań, aby: 1) uwzględnić wymogi ochrony środowiska i efektywnego gospodarowania zasobami; 2) budować niezawodną, zrównoważoną, trwałą i stabilną infrastrukturę dobrej jakości (w rozumieniu celu 9 Agendy na rzecz zrównoważonego rozwoju 2030 (ONZ));3) wdrożyć zintegrowane zarządzanie zasobami wodnymi (w rozumieniu celu 6 Agendy na rzecz zrównoważonego rozwoju 2030 (ONZ));4) zachować i rozwijać zieloną infrastrukturę, zwłaszcza drzewa, w całym cyklu projektowym, m.in. przez stosowanie standardów ochrony zieleni (w tym właściwą organizację prac budowlanych): 5) promować praktyki w zakresie zielonych zamówień publicznych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godnie z polityką i priorytetami krajowy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2 Projekt ma pozytywny wpływ na zasadę równości szans i niedyskryminacji, w tym dostępności dla osób z niepełnosprawnościami. Wsparcie polityki spójności będzie udzielane wyłącznie projektom i beneficjentom, którzy przestrzegają przepisów antydyskryminacyjnych, o których mowa w art. 9 ust. 3 Rozporządzenia PE i Rady nr 2021/1060. W przypadku, gdy beneficjentem jest jednostka samorządu terytorialnego (lub podmiot przez nią kontrolowany lub od niej zależny), która podjęła jakiekolwiek działania dyskryminujące, sprzeczne z zasadami, o których mowa w art. 9 ust. 3 rozporządzenia nr 2021/1060, wsparcie w ramach polityki spójności nie może być udziel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nioskodawca powinien wskazać, w jaki sposób realizacja projektu ma pozytywny wpływ na zasadę równości szans i niedyskryminacji, w tym dostępności dla osób z niepełnosprawnościa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Przez pozytywny wpływ należy rozumieć zapewnienie dostępności infrastruktury, środków transportu, towarów, usług, technologii i systemów informacyjno-komunikacyjnych oraz wszelkich produktów projektów (w tym także usług) dla wszystkich ich użytkowników/użytkowniczek. Dostępność pozwala osobom, które mogą być wykluczone (ze względu na różne przesłanki np. wiek, tymczasowa niepełnosprawność, opieka nad dziećmi, itd.), w szczególności osobom z niepełnosprawnościami i starszym na korzystanie z nich na zasadzie równości z innymi osoba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puszczalne jest uznanie neutralności poszczególnych produktów/usług projektu w stosunku do ww. zasady, o ile wnioskodawca wykaże, że produkty/usługi nie mają swoich bezpośrednich użytkowników/użytkowniczek (np. trakcje kolejowe, instalacje elektryczne, linie przesyłowe, automatyczne linie produkcyjne, nowe lub usprawnione procesy technologiczne). W takiej sytuacji również uznaje się, że projekt ma pozytywny wpływ na ww. zasad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Kolejnym z przejawów pozytywnego wpływu projektu na tę zasadę jest niepodejmowanie dyskryminujących aktów prawnych2, tj.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- wnioskodawca będący jednostką samorządu terytorialnego oświadcza, że na jego terenie nie obowiązują dyskryminujące akty prawne; wnioskodawca będąc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podmiotem kontrolowanym przez jednostkę samorządu terytorialnego lu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podmiotem zależnym od jednostki samorządu terytorialne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świadcza, że na terenie, na którym posiada swoją siedzibę nie obowiązują dyskryminujące akty praw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 Projekt jest zgodny z zasadą równości kobiet i mężczyzn. Wnioskodawca powinien wykazać, w jaki sposób projekt będzie zgodny z zasadą równości kobiet i mężczyzn. Zgodność projektu zostanie uznana jeśli projekt ma pozytywny bądź neutralny wpływ na zasadę równości kobiet i mężczyzn. Aby właściwie ocenić wpływ projektu na realizację tej zasady, wnioskodawca najpierw powinien rozważyć czy przez projekt można wyrównywać szanse osób, które w danym obszarze, znajdują się w gorszym położeniu. Następnie wnioskodawca powinien zaplanować działania przyczyniające się do wyrównania szans osób będących w gorszym położeniu. Jeżeli wnioskodawca stwierdzi, że w ramach projektu nie da się zrealizować żadnych działań w zakresie tej zasady, wtedy projekt może mieć neutralny wpływ na zasadę równości kobiet i mężczyzn. Wnioskodawca musi jednak przedstawić konkretne uzasadnienie, dlaczego jest to niemożliwe w danym projekcie. Ocena na podstawie informacji zawartych we wniosku o dofinansowan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254F4B-1C84-4449-B9AE-430DEBF10D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B69A-B30A-493A-9CEA-EB461A0C4C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A324-6521-49EA-A73C-3D15A5D5D52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62BE1-9803-4A66-8215-3B3614D91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FC06-5DB7-4F4B-B5AF-79CF0239156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4B2B02-7265-45B1-BA00-5F484F2B10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C6A99-167D-447B-9D3F-03C6290F38B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A1BCB-BA34-4225-9511-6CE48AD7756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99DF3-59D1-43E7-989C-666FC188A9B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0EB66-B680-4D21-97EF-9B54B4FD7A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5A1B4-1C94-4C1B-8DFE-825F2006D9C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2841A-304B-4572-8B2D-B849E994BF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C53974-39A2-4446-AA45-D92ECCF432A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1AFCB-BED9-49B2-9436-564B767BE92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6B62A-03F4-4B5D-800D-75DB58882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D435-AEE7-4DBB-A9F2-21A21D4885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CC4E2-BB92-46FC-A422-2724E2E821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ABB8-C976-4804-AFBF-07B60882C9B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7FF8-E7FC-458A-B03D-3BCAD8B3375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10BAA-CDB2-4212-83CB-826DEA23F0A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29A5-9092-4FBE-80B0-CECE5693D77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F577-82A3-4C82-8FC1-FE40BA4C8EB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07277-FED7-457D-8EEA-C0D577C9BB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1B4E6-A7B0-4F57-A873-1DE8D5C94C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F32F-145D-4BAD-97E7-478B9852829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6461-87A5-4510-8838-75740480B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8732D-259B-4941-BB84-3FC21DE25EA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27F5-F310-4069-BB10-568F4F5DD3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095E-3F82-4929-B43E-90F3A7C040F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8F227-F2C7-4DF4-A909-EB3588FD388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6988F3-EBAD-46CE-860B-C9771BA2944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374A2B-D3FA-4920-B0B3-878265FC620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744AB-2AE2-4211-97FA-90634107D6F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90D12-AA96-443A-AD74-C82D3D2B54E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65F10-8956-4C75-966B-7D2EDC11483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A3131-84D8-4B07-9F9E-98FE6B7696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63162-A752-481D-8DC1-8142493394B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F8C01-40E6-43E7-91D8-A5C61CDB17A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F1C57-4E63-4B6E-AD63-C0D3AE49DD8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24A08-ECA0-4207-8CD3-FD9CDC9C51C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AC4FF-2BEE-45A4-ADFB-3B79DBC43A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82BA2-AFB1-4785-8C76-054EE24ADF8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82067-7CB9-450F-970C-BE759C069D4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F0736D-92A3-45ED-B2E4-10F65E7100B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12700-9AB6-4B2A-BCB3-B325BD416FF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F829B-EB8D-4C8B-8C9A-3FF8AA43E1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986C5-C2E7-4DFF-9B72-6979E00B851A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0BEFCF-0770-41FF-84B2-8C84BA893E4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164BCC-E94C-49CC-A381-80B80E6BF15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FB4FB-7D5E-4985-9CA4-2F971D6B7FE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1DE01C-933D-4EB6-A41E-2BAE8B21EA3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F9CCB-C24F-466D-BA3C-38C556C095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C48BFF-94D3-4E3C-8442-13BBF90B149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9F479-22E7-4643-9148-0BDC636ED4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FAE86-F7E2-42FC-86C8-442C7C8594B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C1DD0-927F-4DC9-B0E7-94D747B89A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30FF7-F345-4B3A-B8D2-D399379388B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CDC8-3ECA-4F00-B3D0-C7D80EB017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3C547-7B07-48C2-BA91-B74AF1BD3EA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314F-78E6-4449-A90E-DB35A66D069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FFB89-D18A-4C89-BA2C-7095CCBDE6B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06B1-9D04-4D4A-ACB2-1554168D798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00CF3-62DE-4410-9C80-72F421282D0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1008-3566-4B7C-BF06-EF80F9C6B5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196CC-4BAC-420B-B8F2-2B23CB4E1F7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4DFE-9ABF-47FE-B1F4-28BED0CA2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1A07-DAF6-4C50-A324-3BD3739211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D614-93DD-4D56-80A2-569BF44E558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C8B2-23A2-48E9-90FE-F9F6396B40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4B723-D44D-4F9B-82F9-A6203D0C644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C928-0504-4A26-921E-A1682BF3843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8407-4350-43A1-9400-93F3E59820D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1385C-71D8-4F02-B2AB-C463CAB890B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025640" y="899640"/>
            <a:ext cx="864072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025640" y="4424040"/>
            <a:ext cx="8640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453280" y="19796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02564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453280" y="4424040"/>
            <a:ext cx="42163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94704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68800" y="19796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0256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94704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868800" y="4424040"/>
            <a:ext cx="278208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100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1100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69.xml"/><Relationship Id="rId10" Type="http://schemas.openxmlformats.org/officeDocument/2006/relationships/slideLayout" Target="../slideLayouts/slideLayout170.xml"/><Relationship Id="rId11" Type="http://schemas.openxmlformats.org/officeDocument/2006/relationships/slideLayout" Target="../slideLayouts/slideLayout171.xml"/><Relationship Id="rId12" Type="http://schemas.openxmlformats.org/officeDocument/2006/relationships/slideLayout" Target="../slideLayouts/slideLayout172.xml"/><Relationship Id="rId13" Type="http://schemas.openxmlformats.org/officeDocument/2006/relationships/slideLayout" Target="../slideLayouts/slideLayout173.xml"/><Relationship Id="rId14" Type="http://schemas.openxmlformats.org/officeDocument/2006/relationships/slideLayout" Target="../slideLayouts/slideLayout174.xml"/><Relationship Id="rId15" Type="http://schemas.openxmlformats.org/officeDocument/2006/relationships/slideLayout" Target="../slideLayouts/slideLayout175.xml"/><Relationship Id="rId16" Type="http://schemas.openxmlformats.org/officeDocument/2006/relationships/slideLayout" Target="../slideLayouts/slideLayout176.xml"/><Relationship Id="rId17" Type="http://schemas.openxmlformats.org/officeDocument/2006/relationships/slideLayout" Target="../slideLayouts/slideLayout177.xml"/><Relationship Id="rId18" Type="http://schemas.openxmlformats.org/officeDocument/2006/relationships/slideLayout" Target="../slideLayouts/slideLayout178.xml"/><Relationship Id="rId19" Type="http://schemas.openxmlformats.org/officeDocument/2006/relationships/slideLayout" Target="../slideLayouts/slideLayout179.xml"/><Relationship Id="rId20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37.xml"/><Relationship Id="rId22" Type="http://schemas.openxmlformats.org/officeDocument/2006/relationships/slideLayout" Target="../slideLayouts/slideLayout38.xml"/><Relationship Id="rId23" Type="http://schemas.openxmlformats.org/officeDocument/2006/relationships/slideLayout" Target="../slideLayouts/slideLayout39.xml"/><Relationship Id="rId24" Type="http://schemas.openxmlformats.org/officeDocument/2006/relationships/slideLayout" Target="../slideLayouts/slideLayout40.xml"/><Relationship Id="rId25" Type="http://schemas.openxmlformats.org/officeDocument/2006/relationships/slideLayout" Target="../slideLayouts/slideLayout41.xml"/><Relationship Id="rId26" Type="http://schemas.openxmlformats.org/officeDocument/2006/relationships/slideLayout" Target="../slideLayouts/slideLayout42.xml"/><Relationship Id="rId27" Type="http://schemas.openxmlformats.org/officeDocument/2006/relationships/slideLayout" Target="../slideLayouts/slideLayout43.xml"/><Relationship Id="rId28" Type="http://schemas.openxmlformats.org/officeDocument/2006/relationships/slideLayout" Target="../slideLayouts/slideLayout44.xml"/><Relationship Id="rId29" Type="http://schemas.openxmlformats.org/officeDocument/2006/relationships/slideLayout" Target="../slideLayouts/slideLayout45.xml"/><Relationship Id="rId30" Type="http://schemas.openxmlformats.org/officeDocument/2006/relationships/slideLayout" Target="../slideLayouts/slideLayout46.xml"/><Relationship Id="rId31" Type="http://schemas.openxmlformats.org/officeDocument/2006/relationships/slideLayout" Target="../slideLayouts/slideLayout47.xml"/><Relationship Id="rId3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.png"/><Relationship Id="rId18" Type="http://schemas.openxmlformats.org/officeDocument/2006/relationships/image" Target="../media/image2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49.xml"/><Relationship Id="rId21" Type="http://schemas.openxmlformats.org/officeDocument/2006/relationships/slideLayout" Target="../slideLayouts/slideLayout50.xml"/><Relationship Id="rId22" Type="http://schemas.openxmlformats.org/officeDocument/2006/relationships/slideLayout" Target="../slideLayouts/slideLayout51.xml"/><Relationship Id="rId23" Type="http://schemas.openxmlformats.org/officeDocument/2006/relationships/slideLayout" Target="../slideLayouts/slideLayout52.xml"/><Relationship Id="rId24" Type="http://schemas.openxmlformats.org/officeDocument/2006/relationships/slideLayout" Target="../slideLayouts/slideLayout53.xml"/><Relationship Id="rId25" Type="http://schemas.openxmlformats.org/officeDocument/2006/relationships/slideLayout" Target="../slideLayouts/slideLayout54.xml"/><Relationship Id="rId26" Type="http://schemas.openxmlformats.org/officeDocument/2006/relationships/slideLayout" Target="../slideLayouts/slideLayout55.xml"/><Relationship Id="rId27" Type="http://schemas.openxmlformats.org/officeDocument/2006/relationships/slideLayout" Target="../slideLayouts/slideLayout56.xml"/><Relationship Id="rId28" Type="http://schemas.openxmlformats.org/officeDocument/2006/relationships/slideLayout" Target="../slideLayouts/slideLayout57.xml"/><Relationship Id="rId29" Type="http://schemas.openxmlformats.org/officeDocument/2006/relationships/slideLayout" Target="../slideLayouts/slideLayout58.xml"/><Relationship Id="rId30" Type="http://schemas.openxmlformats.org/officeDocument/2006/relationships/slideLayout" Target="../slideLayouts/slideLayout59.xml"/><Relationship Id="rId3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rostokąt 9"/>
          <p:cNvSpPr/>
          <p:nvPr/>
        </p:nvSpPr>
        <p:spPr>
          <a:xfrm>
            <a:off x="1025640" y="0"/>
            <a:ext cx="1081080" cy="17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rostokąt 11"/>
          <p:cNvSpPr/>
          <p:nvPr/>
        </p:nvSpPr>
        <p:spPr>
          <a:xfrm>
            <a:off x="2106720" y="0"/>
            <a:ext cx="755964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08765-9D76-4E55-AE00-7A433F0475CC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rostokąt 6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rostokąt 9"/>
          <p:cNvSpPr/>
          <p:nvPr/>
        </p:nvSpPr>
        <p:spPr>
          <a:xfrm>
            <a:off x="1025640" y="0"/>
            <a:ext cx="1081080" cy="17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rostokąt 11"/>
          <p:cNvSpPr/>
          <p:nvPr/>
        </p:nvSpPr>
        <p:spPr>
          <a:xfrm>
            <a:off x="2106720" y="0"/>
            <a:ext cx="755964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rostokąt 6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rostokąt 1"/>
          <p:cNvSpPr/>
          <p:nvPr/>
        </p:nvSpPr>
        <p:spPr>
          <a:xfrm>
            <a:off x="1025640" y="0"/>
            <a:ext cx="1079280" cy="179280"/>
          </a:xfrm>
          <a:prstGeom prst="rect">
            <a:avLst/>
          </a:prstGeom>
          <a:solidFill>
            <a:srgbClr val="003399"/>
          </a:solidFill>
          <a:ln w="12600">
            <a:solidFill>
              <a:srgbClr val="3e3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rostokąt 2"/>
          <p:cNvSpPr/>
          <p:nvPr/>
        </p:nvSpPr>
        <p:spPr>
          <a:xfrm>
            <a:off x="2104920" y="0"/>
            <a:ext cx="7559640" cy="17928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rostokąt 4"/>
          <p:cNvSpPr/>
          <p:nvPr/>
        </p:nvSpPr>
        <p:spPr>
          <a:xfrm>
            <a:off x="8585280" y="7380360"/>
            <a:ext cx="1079280" cy="179280"/>
          </a:xfrm>
          <a:prstGeom prst="rect">
            <a:avLst/>
          </a:prstGeom>
          <a:solidFill>
            <a:srgbClr val="bdbde9"/>
          </a:solidFill>
          <a:ln w="12600">
            <a:solidFill>
              <a:srgbClr val="bdb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8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F64C15-020B-4AF8-BF0A-7B47E3EB1F7F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rostokąt 9"/>
          <p:cNvSpPr/>
          <p:nvPr/>
        </p:nvSpPr>
        <p:spPr>
          <a:xfrm>
            <a:off x="1025640" y="0"/>
            <a:ext cx="1081080" cy="17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rostokąt 11"/>
          <p:cNvSpPr/>
          <p:nvPr/>
        </p:nvSpPr>
        <p:spPr>
          <a:xfrm>
            <a:off x="2106720" y="0"/>
            <a:ext cx="755964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rostokąt 6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rostokąt 1"/>
          <p:cNvSpPr/>
          <p:nvPr/>
        </p:nvSpPr>
        <p:spPr>
          <a:xfrm>
            <a:off x="1025640" y="0"/>
            <a:ext cx="1079280" cy="179280"/>
          </a:xfrm>
          <a:prstGeom prst="rect">
            <a:avLst/>
          </a:prstGeom>
          <a:solidFill>
            <a:srgbClr val="3e3ebc"/>
          </a:solidFill>
          <a:ln w="12600">
            <a:solidFill>
              <a:srgbClr val="3e3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rostokąt 2"/>
          <p:cNvSpPr/>
          <p:nvPr/>
        </p:nvSpPr>
        <p:spPr>
          <a:xfrm>
            <a:off x="2104920" y="0"/>
            <a:ext cx="7559640" cy="17928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rostokąt 4"/>
          <p:cNvSpPr/>
          <p:nvPr/>
        </p:nvSpPr>
        <p:spPr>
          <a:xfrm>
            <a:off x="8585280" y="7380360"/>
            <a:ext cx="1079280" cy="179280"/>
          </a:xfrm>
          <a:prstGeom prst="rect">
            <a:avLst/>
          </a:prstGeom>
          <a:solidFill>
            <a:srgbClr val="bdbde9"/>
          </a:solidFill>
          <a:ln w="12600">
            <a:solidFill>
              <a:srgbClr val="bdb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9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203CA-95EE-4BF1-9B07-43D7C0B2F456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rostokąt 9"/>
          <p:cNvSpPr/>
          <p:nvPr/>
        </p:nvSpPr>
        <p:spPr>
          <a:xfrm>
            <a:off x="1025640" y="0"/>
            <a:ext cx="1081080" cy="17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rostokąt 11"/>
          <p:cNvSpPr/>
          <p:nvPr/>
        </p:nvSpPr>
        <p:spPr>
          <a:xfrm>
            <a:off x="2106720" y="0"/>
            <a:ext cx="755964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rostokąt 6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rostokąt 1"/>
          <p:cNvSpPr/>
          <p:nvPr/>
        </p:nvSpPr>
        <p:spPr>
          <a:xfrm>
            <a:off x="1025640" y="0"/>
            <a:ext cx="1079280" cy="179280"/>
          </a:xfrm>
          <a:prstGeom prst="rect">
            <a:avLst/>
          </a:prstGeom>
          <a:solidFill>
            <a:srgbClr val="3e3ebc"/>
          </a:solidFill>
          <a:ln w="12600">
            <a:solidFill>
              <a:srgbClr val="3e3e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rostokąt 2"/>
          <p:cNvSpPr/>
          <p:nvPr/>
        </p:nvSpPr>
        <p:spPr>
          <a:xfrm>
            <a:off x="2104920" y="0"/>
            <a:ext cx="7559640" cy="17928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rostokąt 4"/>
          <p:cNvSpPr/>
          <p:nvPr/>
        </p:nvSpPr>
        <p:spPr>
          <a:xfrm>
            <a:off x="8585280" y="7380360"/>
            <a:ext cx="1079280" cy="179280"/>
          </a:xfrm>
          <a:prstGeom prst="rect">
            <a:avLst/>
          </a:prstGeom>
          <a:solidFill>
            <a:srgbClr val="bdbde9"/>
          </a:solidFill>
          <a:ln w="12600">
            <a:solidFill>
              <a:srgbClr val="bdb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10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986F40-6E11-4F04-9B13-419E2E732B79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rostokąt 1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rostokąt 2"/>
          <p:cNvSpPr/>
          <p:nvPr/>
        </p:nvSpPr>
        <p:spPr>
          <a:xfrm>
            <a:off x="8585280" y="7380360"/>
            <a:ext cx="1079280" cy="179280"/>
          </a:xfrm>
          <a:prstGeom prst="rect">
            <a:avLst/>
          </a:prstGeom>
          <a:solidFill>
            <a:srgbClr val="bdbde9"/>
          </a:solidFill>
          <a:ln w="12600">
            <a:solidFill>
              <a:srgbClr val="bdbd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1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17C4C-588D-4206-8815-CE9523A421E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rostokąt 1"/>
          <p:cNvSpPr/>
          <p:nvPr/>
        </p:nvSpPr>
        <p:spPr>
          <a:xfrm>
            <a:off x="8585280" y="7380360"/>
            <a:ext cx="1081080" cy="17928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sldNum" idx="12"/>
          </p:nvPr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2000" bIns="72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000" spc="-1" strike="noStrike">
                <a:solidFill>
                  <a:srgbClr val="002073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D7AF6-CD05-49FC-87A0-9B487EFA500B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rostokąt 1"/>
          <p:cNvSpPr/>
          <p:nvPr/>
        </p:nvSpPr>
        <p:spPr>
          <a:xfrm>
            <a:off x="2465280" y="4500720"/>
            <a:ext cx="8226360" cy="180000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2" name="Obraz 8" descr="Obraz zawierający tekst&#10;&#10;Opis wygenerowany automatycznie"/>
          <p:cNvPicPr/>
          <p:nvPr/>
        </p:nvPicPr>
        <p:blipFill>
          <a:blip r:embed="rId2"/>
          <a:stretch/>
        </p:blipFill>
        <p:spPr>
          <a:xfrm>
            <a:off x="2467080" y="4500720"/>
            <a:ext cx="3959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643" name="Grupa 10"/>
          <p:cNvGrpSpPr/>
          <p:nvPr/>
        </p:nvGrpSpPr>
        <p:grpSpPr>
          <a:xfrm>
            <a:off x="998640" y="6567480"/>
            <a:ext cx="8739000" cy="668520"/>
            <a:chOff x="998640" y="6567480"/>
            <a:chExt cx="8739000" cy="668520"/>
          </a:xfrm>
        </p:grpSpPr>
        <p:pic>
          <p:nvPicPr>
            <p:cNvPr id="644" name="Obraz 2" descr=""/>
            <p:cNvPicPr/>
            <p:nvPr/>
          </p:nvPicPr>
          <p:blipFill>
            <a:blip r:embed="rId3"/>
            <a:stretch/>
          </p:blipFill>
          <p:spPr>
            <a:xfrm>
              <a:off x="998640" y="656820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Obraz 2" descr=""/>
            <p:cNvPicPr/>
            <p:nvPr/>
          </p:nvPicPr>
          <p:blipFill>
            <a:blip r:embed="rId4"/>
            <a:stretch/>
          </p:blipFill>
          <p:spPr>
            <a:xfrm>
              <a:off x="4672080" y="656748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Obraz 2" descr=""/>
            <p:cNvPicPr/>
            <p:nvPr/>
          </p:nvPicPr>
          <p:blipFill>
            <a:blip r:embed="rId5"/>
            <a:stretch/>
          </p:blipFill>
          <p:spPr>
            <a:xfrm>
              <a:off x="8048880" y="656748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7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8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9"/>
    <p:sldLayoutId id="2147483832" r:id="rId10"/>
    <p:sldLayoutId id="2147483833" r:id="rId11"/>
    <p:sldLayoutId id="2147483834" r:id="rId12"/>
    <p:sldLayoutId id="2147483835" r:id="rId13"/>
    <p:sldLayoutId id="2147483836" r:id="rId14"/>
    <p:sldLayoutId id="2147483837" r:id="rId15"/>
    <p:sldLayoutId id="2147483838" r:id="rId16"/>
    <p:sldLayoutId id="2147483839" r:id="rId17"/>
    <p:sldLayoutId id="2147483840" r:id="rId18"/>
    <p:sldLayoutId id="2147483841" r:id="rId19"/>
    <p:sldLayoutId id="2147483842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rostokąt 1"/>
          <p:cNvSpPr/>
          <p:nvPr/>
        </p:nvSpPr>
        <p:spPr>
          <a:xfrm>
            <a:off x="1027080" y="1973160"/>
            <a:ext cx="8639280" cy="432756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rostokąt 2"/>
          <p:cNvSpPr/>
          <p:nvPr/>
        </p:nvSpPr>
        <p:spPr>
          <a:xfrm>
            <a:off x="0" y="0"/>
            <a:ext cx="4986360" cy="2693880"/>
          </a:xfrm>
          <a:prstGeom prst="rect">
            <a:avLst/>
          </a:prstGeom>
          <a:solidFill>
            <a:srgbClr val="6bb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Obraz 10" descr="Obraz zawierający tekst&#10;&#10;Opis wygenerowany automatycznie"/>
          <p:cNvPicPr/>
          <p:nvPr/>
        </p:nvPicPr>
        <p:blipFill>
          <a:blip r:embed="rId2"/>
          <a:stretch/>
        </p:blipFill>
        <p:spPr>
          <a:xfrm>
            <a:off x="1027080" y="1973160"/>
            <a:ext cx="3959280" cy="720720"/>
          </a:xfrm>
          <a:prstGeom prst="rect">
            <a:avLst/>
          </a:prstGeom>
          <a:ln w="0">
            <a:noFill/>
          </a:ln>
        </p:spPr>
      </p:pic>
      <p:pic>
        <p:nvPicPr>
          <p:cNvPr id="45" name="Obraz 12" descr=""/>
          <p:cNvPicPr/>
          <p:nvPr/>
        </p:nvPicPr>
        <p:blipFill>
          <a:blip r:embed="rId3"/>
          <a:stretch/>
        </p:blipFill>
        <p:spPr>
          <a:xfrm>
            <a:off x="596880" y="539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46" name="Obraz 13" descr=""/>
          <p:cNvPicPr/>
          <p:nvPr/>
        </p:nvPicPr>
        <p:blipFill>
          <a:blip r:embed="rId4"/>
          <a:stretch/>
        </p:blipFill>
        <p:spPr>
          <a:xfrm>
            <a:off x="2104920" y="539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47" name="Obraz 14" descr=""/>
          <p:cNvPicPr/>
          <p:nvPr/>
        </p:nvPicPr>
        <p:blipFill>
          <a:blip r:embed="rId5"/>
          <a:stretch/>
        </p:blipFill>
        <p:spPr>
          <a:xfrm>
            <a:off x="3614760" y="539640"/>
            <a:ext cx="1079640" cy="1081080"/>
          </a:xfrm>
          <a:prstGeom prst="rect">
            <a:avLst/>
          </a:prstGeom>
          <a:ln w="0">
            <a:noFill/>
          </a:ln>
        </p:spPr>
      </p:pic>
      <p:grpSp>
        <p:nvGrpSpPr>
          <p:cNvPr id="48" name="Grupa 15"/>
          <p:cNvGrpSpPr/>
          <p:nvPr/>
        </p:nvGrpSpPr>
        <p:grpSpPr>
          <a:xfrm>
            <a:off x="998640" y="6443640"/>
            <a:ext cx="8739000" cy="668520"/>
            <a:chOff x="998640" y="6443640"/>
            <a:chExt cx="8739000" cy="668520"/>
          </a:xfrm>
        </p:grpSpPr>
        <p:pic>
          <p:nvPicPr>
            <p:cNvPr id="49" name="Obraz 2" descr=""/>
            <p:cNvPicPr/>
            <p:nvPr/>
          </p:nvPicPr>
          <p:blipFill>
            <a:blip r:embed="rId6"/>
            <a:stretch/>
          </p:blipFill>
          <p:spPr>
            <a:xfrm>
              <a:off x="998640" y="644436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Obraz 2" descr=""/>
            <p:cNvPicPr/>
            <p:nvPr/>
          </p:nvPicPr>
          <p:blipFill>
            <a:blip r:embed="rId7"/>
            <a:stretch/>
          </p:blipFill>
          <p:spPr>
            <a:xfrm>
              <a:off x="4672080" y="644364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Obraz 2" descr=""/>
            <p:cNvPicPr/>
            <p:nvPr/>
          </p:nvPicPr>
          <p:blipFill>
            <a:blip r:embed="rId8"/>
            <a:stretch/>
          </p:blipFill>
          <p:spPr>
            <a:xfrm>
              <a:off x="8048880" y="644364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9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0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2"/>
          </p:nvPr>
        </p:nvSpPr>
        <p:spPr>
          <a:xfrm>
            <a:off x="7866000" y="539640"/>
            <a:ext cx="179856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491F73-CD5F-44C6-AD43-BC67D56E3DFC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1"/>
          <p:cNvSpPr/>
          <p:nvPr/>
        </p:nvSpPr>
        <p:spPr>
          <a:xfrm>
            <a:off x="1027080" y="1973160"/>
            <a:ext cx="8639280" cy="432756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rostokąt 2"/>
          <p:cNvSpPr/>
          <p:nvPr/>
        </p:nvSpPr>
        <p:spPr>
          <a:xfrm>
            <a:off x="0" y="0"/>
            <a:ext cx="4986360" cy="2693880"/>
          </a:xfrm>
          <a:prstGeom prst="rect">
            <a:avLst/>
          </a:prstGeom>
          <a:solidFill>
            <a:srgbClr val="6bb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10" descr=""/>
          <p:cNvPicPr/>
          <p:nvPr/>
        </p:nvPicPr>
        <p:blipFill>
          <a:blip r:embed="rId2"/>
          <a:stretch/>
        </p:blipFill>
        <p:spPr>
          <a:xfrm>
            <a:off x="596880" y="539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4" name="Obraz 12" descr=""/>
          <p:cNvPicPr/>
          <p:nvPr/>
        </p:nvPicPr>
        <p:blipFill>
          <a:blip r:embed="rId3"/>
          <a:stretch/>
        </p:blipFill>
        <p:spPr>
          <a:xfrm>
            <a:off x="2104920" y="539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Obraz 13" descr=""/>
          <p:cNvPicPr/>
          <p:nvPr/>
        </p:nvPicPr>
        <p:blipFill>
          <a:blip r:embed="rId4"/>
          <a:stretch/>
        </p:blipFill>
        <p:spPr>
          <a:xfrm>
            <a:off x="3614760" y="539640"/>
            <a:ext cx="1079640" cy="1081080"/>
          </a:xfrm>
          <a:prstGeom prst="rect">
            <a:avLst/>
          </a:prstGeom>
          <a:ln w="0">
            <a:noFill/>
          </a:ln>
        </p:spPr>
      </p:pic>
      <p:grpSp>
        <p:nvGrpSpPr>
          <p:cNvPr id="96" name="Grupa 14"/>
          <p:cNvGrpSpPr/>
          <p:nvPr/>
        </p:nvGrpSpPr>
        <p:grpSpPr>
          <a:xfrm>
            <a:off x="998640" y="6443640"/>
            <a:ext cx="8739000" cy="668520"/>
            <a:chOff x="998640" y="6443640"/>
            <a:chExt cx="8739000" cy="668520"/>
          </a:xfrm>
        </p:grpSpPr>
        <p:pic>
          <p:nvPicPr>
            <p:cNvPr id="97" name="Obraz 2" descr=""/>
            <p:cNvPicPr/>
            <p:nvPr/>
          </p:nvPicPr>
          <p:blipFill>
            <a:blip r:embed="rId5"/>
            <a:stretch/>
          </p:blipFill>
          <p:spPr>
            <a:xfrm>
              <a:off x="998640" y="644436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Obraz 2" descr=""/>
            <p:cNvPicPr/>
            <p:nvPr/>
          </p:nvPicPr>
          <p:blipFill>
            <a:blip r:embed="rId6"/>
            <a:stretch/>
          </p:blipFill>
          <p:spPr>
            <a:xfrm>
              <a:off x="4672080" y="644364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raz 2" descr=""/>
            <p:cNvPicPr/>
            <p:nvPr/>
          </p:nvPicPr>
          <p:blipFill>
            <a:blip r:embed="rId7"/>
            <a:stretch/>
          </p:blipFill>
          <p:spPr>
            <a:xfrm>
              <a:off x="8048880" y="644364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8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9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0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3"/>
          </p:nvPr>
        </p:nvSpPr>
        <p:spPr>
          <a:xfrm>
            <a:off x="7866000" y="539640"/>
            <a:ext cx="179856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48F2C6-C895-4EA0-991B-99F50E3C82C8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1"/>
          <p:cNvSpPr/>
          <p:nvPr/>
        </p:nvSpPr>
        <p:spPr>
          <a:xfrm>
            <a:off x="1025640" y="1982880"/>
            <a:ext cx="8640720" cy="431784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2"/>
          <p:cNvSpPr/>
          <p:nvPr/>
        </p:nvSpPr>
        <p:spPr>
          <a:xfrm>
            <a:off x="0" y="0"/>
            <a:ext cx="4986360" cy="2693880"/>
          </a:xfrm>
          <a:prstGeom prst="rect">
            <a:avLst/>
          </a:prstGeom>
          <a:solidFill>
            <a:srgbClr val="6bb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10" descr="Obraz zawierający tekst&#10;&#10;Opis wygenerowany automatycznie"/>
          <p:cNvPicPr/>
          <p:nvPr/>
        </p:nvPicPr>
        <p:blipFill>
          <a:blip r:embed="rId2">
            <a:alphaModFix amt="92000"/>
          </a:blip>
          <a:stretch/>
        </p:blipFill>
        <p:spPr>
          <a:xfrm>
            <a:off x="1027080" y="1979640"/>
            <a:ext cx="3959280" cy="720720"/>
          </a:xfrm>
          <a:prstGeom prst="rect">
            <a:avLst/>
          </a:prstGeom>
          <a:ln w="0">
            <a:noFill/>
          </a:ln>
        </p:spPr>
      </p:pic>
      <p:pic>
        <p:nvPicPr>
          <p:cNvPr id="142" name="Obraz 15" descr=""/>
          <p:cNvPicPr/>
          <p:nvPr/>
        </p:nvPicPr>
        <p:blipFill>
          <a:blip r:embed="rId3"/>
          <a:stretch/>
        </p:blipFill>
        <p:spPr>
          <a:xfrm>
            <a:off x="652320" y="124452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43" name="Obraz 16" descr=""/>
          <p:cNvPicPr/>
          <p:nvPr/>
        </p:nvPicPr>
        <p:blipFill>
          <a:blip r:embed="rId4"/>
          <a:stretch/>
        </p:blipFill>
        <p:spPr>
          <a:xfrm>
            <a:off x="1365120" y="546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Obraz 17" descr=""/>
          <p:cNvPicPr/>
          <p:nvPr/>
        </p:nvPicPr>
        <p:blipFill>
          <a:blip r:embed="rId5"/>
          <a:stretch/>
        </p:blipFill>
        <p:spPr>
          <a:xfrm>
            <a:off x="1380960" y="124452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45" name="Obraz 18" descr=""/>
          <p:cNvPicPr/>
          <p:nvPr/>
        </p:nvPicPr>
        <p:blipFill>
          <a:blip r:embed="rId6"/>
          <a:stretch/>
        </p:blipFill>
        <p:spPr>
          <a:xfrm>
            <a:off x="4265640" y="538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6" name="Obraz 19" descr=""/>
          <p:cNvPicPr/>
          <p:nvPr/>
        </p:nvPicPr>
        <p:blipFill>
          <a:blip r:embed="rId7"/>
          <a:stretch/>
        </p:blipFill>
        <p:spPr>
          <a:xfrm>
            <a:off x="644400" y="546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7" name="Obraz 20" descr=""/>
          <p:cNvPicPr/>
          <p:nvPr/>
        </p:nvPicPr>
        <p:blipFill>
          <a:blip r:embed="rId8"/>
          <a:stretch/>
        </p:blipFill>
        <p:spPr>
          <a:xfrm>
            <a:off x="2104920" y="12542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8" name="Obraz 21" descr=""/>
          <p:cNvPicPr/>
          <p:nvPr/>
        </p:nvPicPr>
        <p:blipFill>
          <a:blip r:embed="rId9"/>
          <a:stretch/>
        </p:blipFill>
        <p:spPr>
          <a:xfrm>
            <a:off x="2814480" y="5428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Obraz 22" descr=""/>
          <p:cNvPicPr/>
          <p:nvPr/>
        </p:nvPicPr>
        <p:blipFill>
          <a:blip r:embed="rId10"/>
          <a:stretch/>
        </p:blipFill>
        <p:spPr>
          <a:xfrm>
            <a:off x="3537000" y="5349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Obraz 23" descr=""/>
          <p:cNvPicPr/>
          <p:nvPr/>
        </p:nvPicPr>
        <p:blipFill>
          <a:blip r:embed="rId11"/>
          <a:stretch/>
        </p:blipFill>
        <p:spPr>
          <a:xfrm>
            <a:off x="2092320" y="53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1" name="Obraz 24" descr=""/>
          <p:cNvPicPr/>
          <p:nvPr/>
        </p:nvPicPr>
        <p:blipFill>
          <a:blip r:embed="rId12"/>
          <a:stretch/>
        </p:blipFill>
        <p:spPr>
          <a:xfrm>
            <a:off x="3535200" y="12524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52" name="Obraz 25" descr=""/>
          <p:cNvPicPr/>
          <p:nvPr/>
        </p:nvPicPr>
        <p:blipFill>
          <a:blip r:embed="rId13"/>
          <a:stretch/>
        </p:blipFill>
        <p:spPr>
          <a:xfrm>
            <a:off x="4265640" y="1251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53" name="Obraz 26" descr=""/>
          <p:cNvPicPr/>
          <p:nvPr/>
        </p:nvPicPr>
        <p:blipFill>
          <a:blip r:embed="rId14"/>
          <a:stretch/>
        </p:blipFill>
        <p:spPr>
          <a:xfrm>
            <a:off x="2814480" y="1251000"/>
            <a:ext cx="381240" cy="3808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upa 24"/>
          <p:cNvGrpSpPr/>
          <p:nvPr/>
        </p:nvGrpSpPr>
        <p:grpSpPr>
          <a:xfrm>
            <a:off x="998640" y="6443640"/>
            <a:ext cx="8739000" cy="668520"/>
            <a:chOff x="998640" y="6443640"/>
            <a:chExt cx="8739000" cy="668520"/>
          </a:xfrm>
        </p:grpSpPr>
        <p:pic>
          <p:nvPicPr>
            <p:cNvPr id="155" name="Obraz 2" descr=""/>
            <p:cNvPicPr/>
            <p:nvPr/>
          </p:nvPicPr>
          <p:blipFill>
            <a:blip r:embed="rId15"/>
            <a:stretch/>
          </p:blipFill>
          <p:spPr>
            <a:xfrm>
              <a:off x="998640" y="644436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Obraz 2" descr=""/>
            <p:cNvPicPr/>
            <p:nvPr/>
          </p:nvPicPr>
          <p:blipFill>
            <a:blip r:embed="rId16"/>
            <a:stretch/>
          </p:blipFill>
          <p:spPr>
            <a:xfrm>
              <a:off x="4672080" y="644364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Obraz 2" descr=""/>
            <p:cNvPicPr/>
            <p:nvPr/>
          </p:nvPicPr>
          <p:blipFill>
            <a:blip r:embed="rId17"/>
            <a:stretch/>
          </p:blipFill>
          <p:spPr>
            <a:xfrm>
              <a:off x="8048880" y="644364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8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9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0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4"/>
          </p:nvPr>
        </p:nvSpPr>
        <p:spPr>
          <a:xfrm>
            <a:off x="7866000" y="539640"/>
            <a:ext cx="179856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EE277B-C143-4D55-AFB7-8AFA843FB2EF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1"/>
    <p:sldLayoutId id="2147483689" r:id="rId22"/>
    <p:sldLayoutId id="2147483690" r:id="rId23"/>
    <p:sldLayoutId id="2147483691" r:id="rId24"/>
    <p:sldLayoutId id="2147483692" r:id="rId25"/>
    <p:sldLayoutId id="2147483693" r:id="rId26"/>
    <p:sldLayoutId id="2147483694" r:id="rId27"/>
    <p:sldLayoutId id="2147483695" r:id="rId28"/>
    <p:sldLayoutId id="2147483696" r:id="rId29"/>
    <p:sldLayoutId id="2147483697" r:id="rId30"/>
    <p:sldLayoutId id="2147483698" r:id="rId31"/>
    <p:sldLayoutId id="2147483699" r:id="rId3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rostokąt 1"/>
          <p:cNvSpPr/>
          <p:nvPr/>
        </p:nvSpPr>
        <p:spPr>
          <a:xfrm>
            <a:off x="1025640" y="1982880"/>
            <a:ext cx="8640720" cy="431784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rostokąt 2"/>
          <p:cNvSpPr/>
          <p:nvPr/>
        </p:nvSpPr>
        <p:spPr>
          <a:xfrm>
            <a:off x="0" y="0"/>
            <a:ext cx="4986360" cy="2693880"/>
          </a:xfrm>
          <a:prstGeom prst="rect">
            <a:avLst/>
          </a:prstGeom>
          <a:solidFill>
            <a:srgbClr val="6bb1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Obraz 14" descr=""/>
          <p:cNvPicPr/>
          <p:nvPr/>
        </p:nvPicPr>
        <p:blipFill>
          <a:blip r:embed="rId2"/>
          <a:stretch/>
        </p:blipFill>
        <p:spPr>
          <a:xfrm>
            <a:off x="652320" y="124452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00" name="Obraz 15" descr=""/>
          <p:cNvPicPr/>
          <p:nvPr/>
        </p:nvPicPr>
        <p:blipFill>
          <a:blip r:embed="rId3"/>
          <a:stretch/>
        </p:blipFill>
        <p:spPr>
          <a:xfrm>
            <a:off x="1365120" y="546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01" name="Obraz 16" descr=""/>
          <p:cNvPicPr/>
          <p:nvPr/>
        </p:nvPicPr>
        <p:blipFill>
          <a:blip r:embed="rId4"/>
          <a:stretch/>
        </p:blipFill>
        <p:spPr>
          <a:xfrm>
            <a:off x="1380960" y="124452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02" name="Obraz 17" descr=""/>
          <p:cNvPicPr/>
          <p:nvPr/>
        </p:nvPicPr>
        <p:blipFill>
          <a:blip r:embed="rId5"/>
          <a:stretch/>
        </p:blipFill>
        <p:spPr>
          <a:xfrm>
            <a:off x="4265640" y="538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3" name="Obraz 18" descr=""/>
          <p:cNvPicPr/>
          <p:nvPr/>
        </p:nvPicPr>
        <p:blipFill>
          <a:blip r:embed="rId6"/>
          <a:stretch/>
        </p:blipFill>
        <p:spPr>
          <a:xfrm>
            <a:off x="644400" y="546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04" name="Obraz 19" descr=""/>
          <p:cNvPicPr/>
          <p:nvPr/>
        </p:nvPicPr>
        <p:blipFill>
          <a:blip r:embed="rId7"/>
          <a:stretch/>
        </p:blipFill>
        <p:spPr>
          <a:xfrm>
            <a:off x="2104920" y="12542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05" name="Obraz 20" descr=""/>
          <p:cNvPicPr/>
          <p:nvPr/>
        </p:nvPicPr>
        <p:blipFill>
          <a:blip r:embed="rId8"/>
          <a:stretch/>
        </p:blipFill>
        <p:spPr>
          <a:xfrm>
            <a:off x="2814480" y="5428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206" name="Obraz 21" descr=""/>
          <p:cNvPicPr/>
          <p:nvPr/>
        </p:nvPicPr>
        <p:blipFill>
          <a:blip r:embed="rId9"/>
          <a:stretch/>
        </p:blipFill>
        <p:spPr>
          <a:xfrm>
            <a:off x="3537000" y="5349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07" name="Obraz 22" descr=""/>
          <p:cNvPicPr/>
          <p:nvPr/>
        </p:nvPicPr>
        <p:blipFill>
          <a:blip r:embed="rId10"/>
          <a:stretch/>
        </p:blipFill>
        <p:spPr>
          <a:xfrm>
            <a:off x="2092320" y="5317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208" name="Obraz 23" descr=""/>
          <p:cNvPicPr/>
          <p:nvPr/>
        </p:nvPicPr>
        <p:blipFill>
          <a:blip r:embed="rId11"/>
          <a:stretch/>
        </p:blipFill>
        <p:spPr>
          <a:xfrm>
            <a:off x="3535200" y="125244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09" name="Obraz 24" descr=""/>
          <p:cNvPicPr/>
          <p:nvPr/>
        </p:nvPicPr>
        <p:blipFill>
          <a:blip r:embed="rId12"/>
          <a:stretch/>
        </p:blipFill>
        <p:spPr>
          <a:xfrm>
            <a:off x="4265640" y="1251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0" name="Obraz 25" descr=""/>
          <p:cNvPicPr/>
          <p:nvPr/>
        </p:nvPicPr>
        <p:blipFill>
          <a:blip r:embed="rId13"/>
          <a:stretch/>
        </p:blipFill>
        <p:spPr>
          <a:xfrm>
            <a:off x="2814480" y="1251000"/>
            <a:ext cx="381240" cy="3808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upa 23"/>
          <p:cNvGrpSpPr/>
          <p:nvPr/>
        </p:nvGrpSpPr>
        <p:grpSpPr>
          <a:xfrm>
            <a:off x="998640" y="6443640"/>
            <a:ext cx="8739000" cy="668520"/>
            <a:chOff x="998640" y="6443640"/>
            <a:chExt cx="8739000" cy="668520"/>
          </a:xfrm>
        </p:grpSpPr>
        <p:pic>
          <p:nvPicPr>
            <p:cNvPr id="212" name="Obraz 2" descr=""/>
            <p:cNvPicPr/>
            <p:nvPr/>
          </p:nvPicPr>
          <p:blipFill>
            <a:blip r:embed="rId14"/>
            <a:stretch/>
          </p:blipFill>
          <p:spPr>
            <a:xfrm>
              <a:off x="998640" y="644436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Obraz 2" descr=""/>
            <p:cNvPicPr/>
            <p:nvPr/>
          </p:nvPicPr>
          <p:blipFill>
            <a:blip r:embed="rId15"/>
            <a:stretch/>
          </p:blipFill>
          <p:spPr>
            <a:xfrm>
              <a:off x="4672080" y="644364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Obraz 2" descr=""/>
            <p:cNvPicPr/>
            <p:nvPr/>
          </p:nvPicPr>
          <p:blipFill>
            <a:blip r:embed="rId16"/>
            <a:stretch/>
          </p:blipFill>
          <p:spPr>
            <a:xfrm>
              <a:off x="8048880" y="644364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7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8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19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5"/>
          </p:nvPr>
        </p:nvSpPr>
        <p:spPr>
          <a:xfrm>
            <a:off x="7866000" y="539640"/>
            <a:ext cx="1798560" cy="3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077F49-D094-494C-9225-F70A56651579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0"/>
    <p:sldLayoutId id="2147483702" r:id="rId21"/>
    <p:sldLayoutId id="2147483703" r:id="rId22"/>
    <p:sldLayoutId id="2147483704" r:id="rId23"/>
    <p:sldLayoutId id="2147483705" r:id="rId24"/>
    <p:sldLayoutId id="2147483706" r:id="rId25"/>
    <p:sldLayoutId id="2147483707" r:id="rId26"/>
    <p:sldLayoutId id="2147483708" r:id="rId27"/>
    <p:sldLayoutId id="2147483709" r:id="rId28"/>
    <p:sldLayoutId id="2147483710" r:id="rId29"/>
    <p:sldLayoutId id="2147483711" r:id="rId30"/>
    <p:sldLayoutId id="2147483712" r:id="rId3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rostokąt 1"/>
          <p:cNvSpPr/>
          <p:nvPr/>
        </p:nvSpPr>
        <p:spPr>
          <a:xfrm>
            <a:off x="2825640" y="4500720"/>
            <a:ext cx="6840720" cy="180000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Obraz 13" descr="Obraz zawierający tekst&#10;&#10;Opis wygenerowany automatycznie"/>
          <p:cNvPicPr/>
          <p:nvPr/>
        </p:nvPicPr>
        <p:blipFill>
          <a:blip r:embed="rId2"/>
          <a:stretch/>
        </p:blipFill>
        <p:spPr>
          <a:xfrm>
            <a:off x="2825640" y="4500720"/>
            <a:ext cx="3959280" cy="7207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a 10"/>
          <p:cNvGrpSpPr/>
          <p:nvPr/>
        </p:nvGrpSpPr>
        <p:grpSpPr>
          <a:xfrm>
            <a:off x="998640" y="6567480"/>
            <a:ext cx="8739000" cy="668520"/>
            <a:chOff x="998640" y="6567480"/>
            <a:chExt cx="8739000" cy="668520"/>
          </a:xfrm>
        </p:grpSpPr>
        <p:pic>
          <p:nvPicPr>
            <p:cNvPr id="257" name="Obraz 2" descr=""/>
            <p:cNvPicPr/>
            <p:nvPr/>
          </p:nvPicPr>
          <p:blipFill>
            <a:blip r:embed="rId3"/>
            <a:stretch/>
          </p:blipFill>
          <p:spPr>
            <a:xfrm>
              <a:off x="998640" y="656820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Obraz 2" descr=""/>
            <p:cNvPicPr/>
            <p:nvPr/>
          </p:nvPicPr>
          <p:blipFill>
            <a:blip r:embed="rId4"/>
            <a:stretch/>
          </p:blipFill>
          <p:spPr>
            <a:xfrm>
              <a:off x="4672080" y="656748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Obraz 2" descr=""/>
            <p:cNvPicPr/>
            <p:nvPr/>
          </p:nvPicPr>
          <p:blipFill>
            <a:blip r:embed="rId5"/>
            <a:stretch/>
          </p:blipFill>
          <p:spPr>
            <a:xfrm>
              <a:off x="8048880" y="656748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7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8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6"/>
          </p:nvPr>
        </p:nvSpPr>
        <p:spPr>
          <a:xfrm>
            <a:off x="7865640" y="53928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BBF60-D814-440A-A720-E8BBD727A2B0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rostokąt 1"/>
          <p:cNvSpPr/>
          <p:nvPr/>
        </p:nvSpPr>
        <p:spPr>
          <a:xfrm>
            <a:off x="2825640" y="4500720"/>
            <a:ext cx="6840720" cy="180000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upa 8"/>
          <p:cNvGrpSpPr/>
          <p:nvPr/>
        </p:nvGrpSpPr>
        <p:grpSpPr>
          <a:xfrm>
            <a:off x="998640" y="6567480"/>
            <a:ext cx="8739000" cy="668520"/>
            <a:chOff x="998640" y="6567480"/>
            <a:chExt cx="8739000" cy="668520"/>
          </a:xfrm>
        </p:grpSpPr>
        <p:pic>
          <p:nvPicPr>
            <p:cNvPr id="301" name="Obraz 2" descr=""/>
            <p:cNvPicPr/>
            <p:nvPr/>
          </p:nvPicPr>
          <p:blipFill>
            <a:blip r:embed="rId2"/>
            <a:stretch/>
          </p:blipFill>
          <p:spPr>
            <a:xfrm>
              <a:off x="998640" y="656820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raz 2" descr=""/>
            <p:cNvPicPr/>
            <p:nvPr/>
          </p:nvPicPr>
          <p:blipFill>
            <a:blip r:embed="rId3"/>
            <a:stretch/>
          </p:blipFill>
          <p:spPr>
            <a:xfrm>
              <a:off x="4672080" y="6567480"/>
              <a:ext cx="1494000" cy="66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Obraz 2" descr=""/>
            <p:cNvPicPr/>
            <p:nvPr/>
          </p:nvPicPr>
          <p:blipFill>
            <a:blip r:embed="rId4"/>
            <a:stretch/>
          </p:blipFill>
          <p:spPr>
            <a:xfrm>
              <a:off x="8048880" y="6567480"/>
              <a:ext cx="1688760" cy="66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6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7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7"/>
          </p:nvPr>
        </p:nvSpPr>
        <p:spPr>
          <a:xfrm>
            <a:off x="7865640" y="539280"/>
            <a:ext cx="1800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400" spc="-1" strike="noStrike">
                <a:solidFill>
                  <a:srgbClr val="002073"/>
                </a:solidFill>
                <a:latin typeface="Open Sans"/>
                <a:ea typeface="Open Sans"/>
              </a:defRPr>
            </a:lvl1pPr>
          </a:lstStyle>
          <a:p>
            <a:pPr indent="0" algn="r">
              <a:lnSpc>
                <a:spcPts val="18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0D311F-B322-4C9C-8A7A-230EEAD8EA2D}" type="datetime"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rostokąt 1"/>
          <p:cNvSpPr/>
          <p:nvPr/>
        </p:nvSpPr>
        <p:spPr>
          <a:xfrm>
            <a:off x="2825640" y="4500720"/>
            <a:ext cx="7196400" cy="2158920"/>
          </a:xfrm>
          <a:prstGeom prst="rect">
            <a:avLst/>
          </a:prstGeom>
          <a:solidFill>
            <a:srgbClr val="bdbd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rostokąt 2"/>
          <p:cNvSpPr/>
          <p:nvPr/>
        </p:nvSpPr>
        <p:spPr>
          <a:xfrm>
            <a:off x="3905280" y="4500720"/>
            <a:ext cx="3600360" cy="358560"/>
          </a:xfrm>
          <a:prstGeom prst="rect">
            <a:avLst/>
          </a:prstGeom>
          <a:solidFill>
            <a:srgbClr val="a6d3ff"/>
          </a:solidFill>
          <a:ln w="12600">
            <a:solidFill>
              <a:srgbClr val="a6d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rostokąt 4"/>
          <p:cNvSpPr/>
          <p:nvPr/>
        </p:nvSpPr>
        <p:spPr>
          <a:xfrm>
            <a:off x="2825640" y="4500720"/>
            <a:ext cx="1079640" cy="35856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rostokąt 1"/>
          <p:cNvSpPr/>
          <p:nvPr/>
        </p:nvSpPr>
        <p:spPr>
          <a:xfrm>
            <a:off x="2825640" y="4500720"/>
            <a:ext cx="7196400" cy="2158920"/>
          </a:xfrm>
          <a:prstGeom prst="rect">
            <a:avLst/>
          </a:prstGeom>
          <a:solidFill>
            <a:srgbClr val="a6d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rostokąt 2"/>
          <p:cNvSpPr/>
          <p:nvPr/>
        </p:nvSpPr>
        <p:spPr>
          <a:xfrm>
            <a:off x="3905280" y="4500720"/>
            <a:ext cx="3600360" cy="35856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rostokąt 4"/>
          <p:cNvSpPr/>
          <p:nvPr/>
        </p:nvSpPr>
        <p:spPr>
          <a:xfrm>
            <a:off x="2825640" y="4500720"/>
            <a:ext cx="1079640" cy="358560"/>
          </a:xfrm>
          <a:prstGeom prst="rect">
            <a:avLst/>
          </a:prstGeom>
          <a:solidFill>
            <a:srgbClr val="003399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25640" y="899640"/>
            <a:ext cx="86407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2800" spc="-1" strike="noStrike">
                <a:solidFill>
                  <a:srgbClr val="002073"/>
                </a:solidFill>
                <a:latin typeface="Open Sans"/>
              </a:rPr>
              <a:t>Click to edit the title text format</a:t>
            </a:r>
            <a:endParaRPr b="1" lang="en-US" sz="28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025640" y="1979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75564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2" marL="1258920" indent="-250920">
              <a:lnSpc>
                <a:spcPts val="2398"/>
              </a:lnSpc>
              <a:spcBef>
                <a:spcPts val="1100"/>
              </a:spcBef>
              <a:buSzPct val="102812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3" marL="176364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4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5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6" marL="2266920" indent="-250920">
              <a:lnSpc>
                <a:spcPts val="2398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4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4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386000" y="3069720"/>
            <a:ext cx="7920000" cy="10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40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500" spc="-1" strike="noStrike">
                <a:solidFill>
                  <a:srgbClr val="002073"/>
                </a:solidFill>
                <a:latin typeface="Open Sans"/>
              </a:rPr>
              <a:t>Prezentacja projektu kryteriów wyboru projektów dla działania </a:t>
            </a:r>
            <a:br>
              <a:rPr sz="1500"/>
            </a:br>
            <a:r>
              <a:rPr b="1" lang="pl-PL" sz="1500" spc="-1" strike="noStrike">
                <a:solidFill>
                  <a:srgbClr val="002073"/>
                </a:solidFill>
                <a:latin typeface="Open Sans"/>
              </a:rPr>
              <a:t>2.2 Adaptacja do zmian klimatu</a:t>
            </a:r>
            <a:br>
              <a:rPr sz="1500"/>
            </a:br>
            <a:endParaRPr b="1" lang="en-US" sz="1500" spc="-1" strike="noStrike">
              <a:solidFill>
                <a:srgbClr val="002073"/>
              </a:solidFill>
              <a:latin typeface="Open San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1386000" y="4862520"/>
            <a:ext cx="792000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ts val="3498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indent="0" algn="r">
              <a:lnSpc>
                <a:spcPts val="3498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2073"/>
                </a:solidFill>
                <a:latin typeface="Open Sans"/>
              </a:rPr>
              <a:t>Piotr Czarnocki, Radca, Departament Funduszy Europejskich, Ministerstwo Klimatu i Środowisk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indent="0" algn="r">
              <a:lnSpc>
                <a:spcPts val="3498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indent="0" algn="r">
              <a:lnSpc>
                <a:spcPts val="3498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94" name="Symbol zastępczy daty 3"/>
          <p:cNvSpPr/>
          <p:nvPr/>
        </p:nvSpPr>
        <p:spPr>
          <a:xfrm>
            <a:off x="7866000" y="539640"/>
            <a:ext cx="17985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002073"/>
                </a:solidFill>
                <a:latin typeface="Open Sans"/>
                <a:ea typeface="Open Sans"/>
              </a:rPr>
              <a:t>5 lipca  202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B0A7E-C75A-4AE9-AB94-4059C2822AC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B1A6D-7BF3-4548-B499-687CFB76F786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5. Zgodność z Miejskim planem adaptacji do zmian klimatu (MPA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6.  Identyfikacja stanu istniejąceg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7. Zielona i zielono-niebieska infrastruktura oraz rozwiązania oparte na przyrodzie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8. Przygotowanie projektu do realizacji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9. Zatrzymanie i retencjonowanie wód w zlewniach miejski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0. Procentowy wzrost udziału terenów zielonych spełniających funkcje ekologiczne na obszarze projektu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0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7D273-42AB-45CC-BB71-9A88997DE0F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745F6-F54D-45ED-A4DC-122622EEFDE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ciąg dalszy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1. Stosowanie metod naturalnych lub bazujących na naturalnych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2.  Optymalizacja zagospodarowania wód opadow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3. Wielofunkcyjność zbiorników wodn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4. Bilans wód opadowych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5. Wykorzystanie wód opadow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6. Stopień otwartości systemu gospodarowania wodami opadowymi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7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5F3A6-9D9B-4586-ADD1-4A2A73D297F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78656-4BF4-4827-8692-768C43DC5BEC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1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Zgodność z Miejskim planem adaptacji do zmian klimatu (MPA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- Ocenie podlega czy projekt wpisuje się w działania kompleksowo dostosowujące miasta do zmian klimatu w zakresie ekstremalnych stanów pogodowych oraz łagodzące efekt miejskich wysp ciepła, które zostały wskazane w MPA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Alternatywnie dla wnioskodawców o statusie gminy miejskiej bądź miejsko-wiejskiej nieposiadających MPA ocenie podlega czy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wnioskodawca przystąpił do opracowania Miejskiego planu adaptacji do zmian klimatu i zobowiązał się do zapewnienia udziału  społeczeństwa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przed rozpoczęciem działań inwestycyjnych w projekcie  wnioskodawca zapewnił aktywny udział lokalnej społeczności  i innych interesariuszy w fazie planowania/przygotowania projektu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y w pkt 1) dokonuje się na podstawie uchwały rady miasta w sprawie  przystąpienia do opracowania MPA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74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A61213-EE50-4CF9-9BF0-94A23C0F95D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CC99C-F4EB-43F8-9D49-9F61EBFA982C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Identyfikacja stanu istniejącego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czy w trakcie przygotowania projektu wykonano/ wykorzystano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inwentaryzację systemu zagospodarowania wód opadowych, w tym  dane na temat długości sieci wraz z rozbiciem na średnice, ilości oraz  położenia wylotów, pojemności zbiorników wodnych,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inwentaryzację terenów zieleni,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3) inwentaryzację powierzchni uszczelnionych lub zasklepionych,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4) mapy glebowe lub inne dane dotyczące przepuszczalności terenów zlewni,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5) identyfikację obszarów wrażliwych na podtopienia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1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61957-CE2D-4C6C-8B7D-4CC888D12F0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8D8DE-AA72-4901-AE2E-ABF8B0B2F965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1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Przygotowanie projektu do  realizacji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czy na moment złożenia wniosku o dofinansowanie wartość zadań inwestycyjnych posiadających pozwolenia na budowę/decyzje o  pozwoleniu na realizację inwestycji w stosunku do wartości wszystkich  zadań wymagających pozwoleń na budowę/decyzji o pozwoleniu na. realizację inwestycji do pełnego procenta wynosi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0 pkt. - 0 % - 40 % lub nie opracowano PFU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 pkt– 41 % – 50 % lub opracowano PFU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 pkt. – 51 % – 60 %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3 pkt. – 61 % – 70 %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4 pkt. – 71 % – 80 %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5 pkt. – 81 % – 90 %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6 pkt. – 91 % – 100 %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8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77987-B6B2-49B8-AF40-77FB9429CE0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DD332E-6B4C-45FC-8188-4059E702AFC2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4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Zatrzymanie i retencjonowanie wód w zlewniach miejski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,  czy projekt dotyczy zatrzymania i retencjonowania wód  opadowych w miejscach ich powstawania, a tym samym opóźnienia ich  odpływu, przez budowę np. zbiorników retencyjnych podziemnych i  powierzchniowych, szczelnych i chłonnych, drenaży rozsączających, nawierzchni chłonnych, zielonych tarasów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będzie podlegać czy zatrzymanie i retencjonowanie wód opadowych w miejscach ich powstawania dotyczy co najmniej 5% powierzchni objętej  projektem. Próg co najmniej 5% powierzchni terenu objętego  przewidywanym zagospodarowaniem wód w zlewniach miejskich w  stosunku do całej powierzchni terenu objętej projektem to wymóg  niezbędny do uzyskania 1 pkt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5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D635D-50F3-4D40-A08C-93BF8ED6008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D70D4-E4C0-464A-8302-BDEEE4C801D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Zielona i zielono-niebieska infrastruktura oraz rozwiązania oparte na przyrodzie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ć będzie, czy w ramach projektu podjęte zostaną działania mające na celu spowolnienie /zatrzymanie odpływu wody opadowej przy wykorzystaniu zielonej i zielono – niebieskiej infrastruktury oraz przy wykorzystaniu rozwiązań opartych na przyrodzie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2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91E54-941E-45A1-88D9-23D73F1B322C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055C40-B3A3-427A-911E-69FE5E75F87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8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Procentowy wzrost udziału terenów zielonych spełniających funkcje ekologiczne na obszarze projektu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procentowy wzrost udziału terenów zielonych, spełniających funkcje ekologiczne na obszarze projektu, przy czym niedopuszczalne jest finansowanie w ramach projektu działań przyczyniających się do rozwoju, wzrostu lub utrzymania gatunków inwazyjnych oraz wprowadzania do środowiska gatunków obcych i inwazyjnych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9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B873B-4587-4E89-8183-B53920EE51B0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B60FA-0690-4F45-8A04-8AA90A4834E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Stosowanie metod naturalnych  lub bazujących na naturalnych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proporcja powierzchni terenu objętego projektem, z której wody opadowe zagospodarowano metodami naturalnymi lub bazującymi na naturalnych, wykorzystujące naturalną zdolność retencji, zagospodarowania, samooczyszczania oraz odprowadzania wód opadowych danego terenu, np. rowy odwadniające w terenie podmokłym, muldy, zbiorniki odparowujące i sedymentacyjne, itd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Dopuszczalne w tym zakresie są również rozwiązania semi-naturalne bazujące na lub imitujące metody naturalne, w szczególności oparte na zasadach ekohydrologii, np. obiekty hydrofitowe oczyszczania wód opadowych, strefy ekotonowe przy brzegach cieków, zbiorników i stawów sedymentacyjnych, ogrody deszczowe, zielone dachy, pasaże roślinne, rozwiązania uwzględniające różnorodność biologiczną, itd. W kryterium wpisują się również działania w zakresie rewitalizacji (renaturyzacji) cieków wodnych znajdujących się w zlewni miejskiej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Próg co najmniej 20% powierzchni terenu objętego projektem, z której wody opadowe zagospodarowano metodami naturalnymi lub bazującymi na naturalnych, to wymóg niezbędny do uzyskania 1 pkt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6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5F607-274B-402A-B951-070A9174728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BC570-C96F-4E79-8723-632B6426680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2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Optymalizacja zagospodarowania wód opadow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, czy zastosowano następujące elementy zagospodarowania wód opadowych, zgodnie z poniższą hierarchią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retencja w miejscu opadu – np. w nieckach terenowych, ogrodach deszczowych, zastosowanie zieleni retencyjnej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retencja terenowa – suche zbiorniki lub parki retencyjne, naturalne  mokradła, tereny zielone z przygotowaniem do okresowych podtopień jak ogrody deszczowe, płytkie muldy i niecki trawiaste, retencja w zieleni miejskiej, rozsączanie wód opadowych do gruntu (studnie chłonne, zbiorniki rozsączające etc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3) retencja zbiornikowa – zbiorniki retencyjne (budowle hydrotechniczne) - zbiorniki otwarte z infiltracją i zielenią, stawy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4) retencja zbiornikowa – zbiorniki retencyjne (budowle hydrotechniczne) - zbiorniki otwarte bez infiltracji i zieleni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5) retencja zbiornikowa – zbiorniki retencyjne (budowle hydrotechniczne) - zbiorniki podziemne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3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EE4BC-B770-45E0-9E22-E9A5DCC896F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0C78A-E967-4196-A869-E3AD4072786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Zakres wsparci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Działanie FEPW.02.02 Adaptacja do zmian klima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Cel szczegółow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FRR/FS.CP2.IV - Wspieranie przystosowania się do zmian klimatu i zapobiegania ryzyku związanemu z klęskami żywiołowymi i katastrofami, a także odporności, z uwzględnieniem podejścia ekosystemoweg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5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I. Spójne i zintegrowane przedsięwzięcia infrastrukturalne, kompleksowo dostosowujące miasta do ekstremalnych stanów pogodowych oraz łagodzące efekt miejskich wysp ciepła przez rozwój zielono-niebieskiej infrastruktury, obejmujące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zagospodarowanie wód opadowych w zlewniach miejskich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zakładanie zielono-niebieskiej infrastruktury w mieście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II. Opracowanie/aktualizacja Miejskich planów adaptacji do zmian klimatu (MPA)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III. Wsparcie opracowania/aktualizacji Miejskich planów adaptacji do zmian klimatu – MPA (doradztwo)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0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3399"/>
                </a:solidFill>
                <a:latin typeface="Open Sans"/>
              </a:rPr>
              <a:t>Typy projektów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rostokąt 8"/>
          <p:cNvSpPr/>
          <p:nvPr/>
        </p:nvSpPr>
        <p:spPr>
          <a:xfrm>
            <a:off x="3949560" y="1189080"/>
            <a:ext cx="658044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EA26C-88C1-4C91-B5C2-116ED25F8C6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E1CCA0-E80A-44A6-AD8C-D418AAE8204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Wielofunkcyjność zbiorników wodn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wielofunkcyjność zbiorników wodnych: mokrych lub półsuchych, tj. czy poza funkcją retencyjną spełniają również inne funkcje: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przyrodnicze, rekreacyjne, dydaktyczne, itp.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zagospodarowują wody opadowe do celów użyteczności publicznej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0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F079AA-19EE-4448-8677-EDB2A95AEEF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B38E7-9DE9-49C3-856E-B8BA2E927D01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98412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9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Bilans wód opadowych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cenie podlega wykorzystanie do sporządzenia rzetelnego bilansu wód  opadowych na terenie zlewni miejskich z wykorzystaniem: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1) danych z kampanii pomiarowej dotyczących opadów deszczu i   poziomów wypełnienia (przepływu) kanałów otwartych, zamkniętych i odbiorników wód opadowych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2) ortofotomapy i numerycznego modelu terenu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 </a:t>
            </a: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3) map glebowych oraz/lub innych danych dotyczących przepuszczalności terenów zlewni i powierzchni przepuszczalnych)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4) skaningu laserowego powierzchni przepuszczalnych lub metod równoważnych oceny przepuszczalności terenu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5) modelowania opadowego oraz hydrodynamicznego z/bez symulacji zmian klimatu, uwzględniającego zmiany klimatu zgodnie ze  scenariuszem RCP 4,5 oraz  RCP 8,5;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6) wyników numerycznych (w tym komputerowych) modeli opadowych oraz hydrodynamicznych, umożliwiających zidentyfikowanie obszarów zagrożonych podtopieniami i bezodpływowych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7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08FAE2-1A13-43E2-9E67-412074D1504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2515E-A62C-43A9-B5EF-368CEFD1DA5F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Wykorzystanie wód opadowych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Ocenie podlega proporcja wykorzystanej objętości zretencjonowanych wód opadowych z terenu zlewni miejskiej objętej projektem, a konkretnie ich ponowne wykorzystanie do: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- zasilania fontann, zbiorników przeciwpożarowych, szaletów;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- chłodzenia lub zmywania powierzchni utwardzonych, w tym ulic,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- utrzymania zieleni (rozprowadzania i podlewania zieleni, w tym przez systemy rozsączając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44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14AC72-021B-4979-B0BE-48B8ACE8904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65BCC0-50C3-45BF-BF79-A3485D840B2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400" spc="-1" strike="noStrike">
                <a:solidFill>
                  <a:srgbClr val="003399"/>
                </a:solidFill>
                <a:latin typeface="Open Sans"/>
              </a:rPr>
              <a:t>Stopień otwartości systemu gospodarowania wodami opadowymi: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Ocenie podlega stopień otwartości przewidzianego w projekcie systemu gospodarowania wodami opadowymi, zgodnie z poniższą hierarchią: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1) otwarty system zagospodarowania wodami opadowymi, opierający  się na ciekach i urządzeniach wodnych, będących częścią publicznej  infrastruktury regulującej stosunki wodne (np. rowy, kanały, potoki,  zbiorniki retencyjne na wodach płynących i rowach, itp.); 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2) otwarty system kanalizacji deszczowej, w tym obiekty retencyjne,  nie kształtujące zasobów wodnych, z których wody kierowane są do zasilania zieleni (w dalszej kolejności nadmiar wód może być skierowany do zamkniętego systemu kanalizacji deszczowej)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3) otwarty system kanalizacji deszczowej, w tym obiekty retencyjne,  niekształtujące zasobów wodnych, z których wody kierowane są do wykorzystania na inne cele niż zasilanie zieleni, a nadmiar wód może być kierowany do zamkniętego systemu kanalizacji deszczowej;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4) zamknięta sieć kanalizacji deszczowej z towarzyszącymi obiektami  np. wpusty, rurociągi, studzienki, zbiorniki wyrównujące przepływ).</a:t>
            </a:r>
            <a:endParaRPr b="0" lang="en-US" sz="12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200" spc="-1" strike="noStrike">
                <a:solidFill>
                  <a:srgbClr val="003399"/>
                </a:solidFill>
                <a:latin typeface="Open Sans"/>
              </a:rPr>
              <a:t>Zastosowanie kanalizacji zamkniętej powinno zostać każdorazowo uzasadnione w kontekście celów projektu</a:t>
            </a: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1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w zakresie zagadnień merytor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74BAC-2BB5-4780-820F-5DBEDD55848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D7D21-3D00-4F55-9E28-B4F057092F86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Maksymalna liczba punktów możliwa do uzyskania wynosi 59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W zakresie każdego z kryteriów 1-17, w celu uzyskania pozytywnej oceny, wymagane jest uzyskanie minimum 1 pkt (punkty te nie wliczają się do ogólnej punktacji)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W zakresie kryteriów 18 - 26, projekt może uzyskać maksymalnie 42 pkt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Punktacja kryteriów 18 – 26 posłuży do ustalenia kolejności projektów (ranking), począwszy od projektu który uzyskał najwyższy wynik oceny – do projektu, który uzyskał najniższy wynik oceny. Wymagane jest uzyskanie minimum 40% pkt. (tj. 17 pkt.) z wszystkich możliwych do osiągnięcia w ramach kryteriów 18-26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W zakresie kryteriów 19 i 21 w celu uzyskania pozytywnej oceny, wymagane jest uzyskanie minimum 1 pkt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8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 - punktacja, pro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A6EF8-E29E-430A-8C26-84415DDFA5F4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0EF1F-E1AE-48C7-A2DC-9EF4E868828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Typ 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Spójne i zintegrowane przedsięwzięcia infrastrukturalne, kompleksowo dostosowujące miasta do ekstremalnych stanów pogodowych oraz łagodzące efekt miejskich wysp ciepła przez rozwój zielono-niebieskiej infrastruktu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Dla projektów typu: Spójne i zintegrowane przedsięwzięcia infrastrukturaln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Kryteria rozstrzygając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Zatrzymanie i retencjonowanie wód w zlewniach miejskich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Stosowanie metod naturalnych lub bazujących na naturalnych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W przypadku, gdy w wyniku oceny więcej niż jeden projekt uzyska jednakową łączną liczbę punktów, wsparcie w pierwszej kolejności będzie przyznane projektowi, który otrzymał większą liczbę punktów w kryterium Zatrzymanie i retencjonowanie wód w zlewniach miejskich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5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yboru projektów  - punktacja, pro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888920" y="1042920"/>
            <a:ext cx="75596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2500" spc="-1" strike="noStrike">
                <a:solidFill>
                  <a:srgbClr val="002073"/>
                </a:solidFill>
                <a:latin typeface="Open Sans"/>
              </a:rPr>
              <a:t>Dziękuję za uwagę</a:t>
            </a:r>
            <a:br>
              <a:rPr sz="2500"/>
            </a:br>
            <a:r>
              <a:rPr b="1" lang="pl-PL" sz="2500" spc="-1" strike="noStrike">
                <a:solidFill>
                  <a:srgbClr val="002073"/>
                </a:solidFill>
                <a:latin typeface="Open Sans"/>
              </a:rPr>
              <a:t>Piotr Czarnocki </a:t>
            </a:r>
            <a:br>
              <a:rPr sz="2500"/>
            </a:br>
            <a:r>
              <a:rPr b="1" lang="pl-PL" sz="2500" spc="-1" strike="noStrike">
                <a:solidFill>
                  <a:srgbClr val="002073"/>
                </a:solidFill>
                <a:latin typeface="Open Sans"/>
              </a:rPr>
              <a:t>Departament Funduszy Europejskich </a:t>
            </a:r>
            <a:br>
              <a:rPr sz="2500"/>
            </a:br>
            <a:r>
              <a:rPr b="1" lang="pl-PL" sz="2500" spc="-1" strike="noStrike">
                <a:solidFill>
                  <a:srgbClr val="002073"/>
                </a:solidFill>
                <a:latin typeface="Open Sans"/>
              </a:rPr>
              <a:t>Ministerstwo Klimatu i Środowiska </a:t>
            </a:r>
            <a:br>
              <a:rPr sz="2500"/>
            </a:br>
            <a:endParaRPr b="1" lang="en-US" sz="2500" spc="-1" strike="noStrike">
              <a:solidFill>
                <a:srgbClr val="002073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EED29-7FB1-4DBC-96F3-ECA4FF0C0813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8002B7-A95B-49EE-B53B-EAEEDEB0044F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Cel wparcia w I typie projektów</a:t>
            </a:r>
            <a:r>
              <a:rPr b="0" lang="pl-PL" sz="1400" spc="-1" strike="noStrike">
                <a:solidFill>
                  <a:srgbClr val="ffffff"/>
                </a:solidFill>
                <a:latin typeface="Open Sans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3000"/>
          </a:bodyPr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Typ I projektów odpowiadać ma na zagrożenia związane z bieżącą zmiennością oraz zmianami klimatu na terenach zurbanizowanych takimi jak: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Susze (wzrost częstotliwości oraz intensywności);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Zjawisko miejskiej wyspy ciepła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Intensywne opady, w tym opady nawalne, skutkujące wzrostem ryzyka wystąpienia podtopień oraz powodzi miejskich,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Uszczelnienie powierzchni, zbyt mały udział zieleni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Powyższe zagrożenia zidentyfikowane zostały w SPA 2020, PEP 2030, w projekcie MPA, a także w ramach innych projektów, w tym KLIMADA 2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725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buSzPct val="102950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7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Cel wspar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Obraz 2" descr=""/>
          <p:cNvPicPr/>
          <p:nvPr/>
        </p:nvPicPr>
        <p:blipFill>
          <a:blip r:embed="rId6"/>
          <a:stretch/>
        </p:blipFill>
        <p:spPr>
          <a:xfrm>
            <a:off x="1654200" y="5018040"/>
            <a:ext cx="3691080" cy="1901880"/>
          </a:xfrm>
          <a:prstGeom prst="rect">
            <a:avLst/>
          </a:prstGeom>
          <a:ln w="0">
            <a:noFill/>
          </a:ln>
        </p:spPr>
      </p:pic>
      <p:pic>
        <p:nvPicPr>
          <p:cNvPr id="710" name="Obraz 3" descr=""/>
          <p:cNvPicPr/>
          <p:nvPr/>
        </p:nvPicPr>
        <p:blipFill>
          <a:blip r:embed="rId7"/>
          <a:stretch/>
        </p:blipFill>
        <p:spPr>
          <a:xfrm>
            <a:off x="6442200" y="5018040"/>
            <a:ext cx="357192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5AEF3D-4F52-4A8C-B6A8-6C0F0F8CBDE9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E6CA6-8AED-43A3-8A16-BDC68701094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Zakres wsparcia w I typie projektów (preferowane rozwiązan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Preferowane rozwiązania, które odpowiadają na ww.  zagrożenia to: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– </a:t>
            </a: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zielona i błękitna infrastruktura,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retencja, zatrzymanie i zagospodarowanie wód opadowych, w szczególności w zieleni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buClr>
                <a:srgbClr val="003399"/>
              </a:buClr>
              <a:buFont typeface="Open Sans"/>
              <a:buChar char="-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„</a:t>
            </a: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Odszczelnianie” (odbetonowanie) terenów uszczelnionych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ct val="115000"/>
              </a:lnSpc>
              <a:spcBef>
                <a:spcPts val="1100"/>
              </a:spcBef>
              <a:spcAft>
                <a:spcPts val="10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400" spc="-1" strike="noStrike">
                <a:solidFill>
                  <a:srgbClr val="003399"/>
                </a:solidFill>
                <a:latin typeface="Open Sans"/>
              </a:rPr>
              <a:t>Powyższe zagrożenia zidentyfikowane zostały w SPA 2020, PEP 2030, w projekcie MPA, a także w ramach innych projektów, w tym KLIMADA 2. 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buSzPct val="168262"/>
              <a:buBlip>
                <a:blip r:embed="rId1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buSzPct val="168262"/>
              <a:buBlip>
                <a:blip r:embed="rId2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buSzPct val="132157"/>
              <a:buBlip>
                <a:blip r:embed="rId3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buSzPct val="132157"/>
              <a:buBlip>
                <a:blip r:embed="rId4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buSzPct val="132157"/>
              <a:buBlip>
                <a:blip r:embed="rId5"/>
              </a:buBlip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130320" indent="-130320"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6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Preferowane rozwią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Obraz 1" descr=""/>
          <p:cNvPicPr/>
          <p:nvPr/>
        </p:nvPicPr>
        <p:blipFill>
          <a:blip r:embed="rId6"/>
          <a:stretch/>
        </p:blipFill>
        <p:spPr>
          <a:xfrm>
            <a:off x="1041480" y="4697280"/>
            <a:ext cx="3392280" cy="2371680"/>
          </a:xfrm>
          <a:prstGeom prst="rect">
            <a:avLst/>
          </a:prstGeom>
          <a:ln w="0">
            <a:noFill/>
          </a:ln>
        </p:spPr>
      </p:pic>
      <p:pic>
        <p:nvPicPr>
          <p:cNvPr id="719" name="Obraz 4" descr=""/>
          <p:cNvPicPr/>
          <p:nvPr/>
        </p:nvPicPr>
        <p:blipFill>
          <a:blip r:embed="rId7"/>
          <a:stretch/>
        </p:blipFill>
        <p:spPr>
          <a:xfrm>
            <a:off x="6256440" y="4697280"/>
            <a:ext cx="37036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95B6A-C83C-43D1-91E9-E38D8D148D3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81CFB-617C-4463-9854-97645B9E66EF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Kryteria w zakresie merytorycznym i horyzontal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. Kwalifikowalność wnioskodawcy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2 Realizacja projektu mieści się w ramach czasowych działania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3 Kompletność i spójność informacji przedstawionych w dokumentacji projektowej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4. Zakres wsparcia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5 Kwalifikowalność wydatków w projekcie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6 Poprawność wskaźników projektu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25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 zakresie horyzontalny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483B2-8111-4CD7-B31F-02773754DDE7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BDFF8-BE11-47D8-B48D-2D495DE22F5B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Kryteria w zakresie merytorycznym i horyzontal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7 Poprawność analizy finansowej i ekonomicznej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8 Trwałość projektu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2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 zakresie horyzontalny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0468F-37DF-4FE7-A457-2A6790D867AB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33E2D-6ED1-4FF9-B076-DAB6736C5D68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Kryteria w zakresie merytorycznym i horyzontal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7 Poprawność analizy finansowej i ekonomicznej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8 Trwałość projektu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9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 zakresie horyzontalny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19CF78-20FF-4451-AA32-9426BE54A3B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C38FC-0B52-49A8-8C63-C050FEA32A6E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Kryteria w zakresie merytorycznym i horyzontal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9. Projekt nie został zakończony przed złożeniem wniosku o dofinansowanie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0 Projekt został poddany ocenie oddziaływania na środowisko plus Deklaracja wodna plus Deklaracja dot. Natury 2000.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1. Zgodność z zasadą zrównoważonego rozwoju, w tym z zasadą ”nie czyń poważnych szkód” (Do No Significant Harm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2 Projekt ma pozytywny wpływ na zasadę równości szans i niedyskryminacji, w tym dostępności dla osób z niepełnosprawnościami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3 Projekt jest zgodny z zasadą równości kobiet i mężczyzn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14. Projekt jest zgodny z Kartą Praw Podstawowych Unii Europejskiej i Konwencją o prawach osób niepełnosprawnych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6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Kryteria w zakresie horyzontalnym (ciąg dalszy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rostokąt 11"/>
          <p:cNvSpPr/>
          <p:nvPr/>
        </p:nvSpPr>
        <p:spPr>
          <a:xfrm>
            <a:off x="9360" y="-25560"/>
            <a:ext cx="3651480" cy="7560000"/>
          </a:xfrm>
          <a:prstGeom prst="rect">
            <a:avLst/>
          </a:prstGeom>
          <a:solidFill>
            <a:srgbClr val="554b97"/>
          </a:solidFill>
          <a:ln w="12600">
            <a:solidFill>
              <a:srgbClr val="554b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ymbol zastępczy numeru slajdu 2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A9EB5-1027-480D-91B6-8905D6ED2241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ymbol zastępczy numeru slajdu 3"/>
          <p:cNvSpPr/>
          <p:nvPr/>
        </p:nvSpPr>
        <p:spPr>
          <a:xfrm>
            <a:off x="8585280" y="7020000"/>
            <a:ext cx="10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ctr">
            <a:normAutofit fontScale="21000"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C3A9A5-DE9F-4C39-8FF7-B1D570EEF836}" type="slidenum">
              <a:rPr b="0" lang="pl-PL" sz="1000" spc="-1" strike="noStrike">
                <a:solidFill>
                  <a:srgbClr val="002073"/>
                </a:solidFill>
                <a:latin typeface="Open 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Tytuł 1"/>
          <p:cNvSpPr/>
          <p:nvPr/>
        </p:nvSpPr>
        <p:spPr>
          <a:xfrm>
            <a:off x="130320" y="409680"/>
            <a:ext cx="3382920" cy="68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Zastosowanie kryteriów w poszczególnych typach projektów, sposób wy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584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912840" y="1271520"/>
            <a:ext cx="64738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Uwagi: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Projekt typu: Spójne i zintegrowane przedsięwzięcia infrastrukturalne – nie dotyczy kryterium 1a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Projektu typu: Opracowanie/aktualizacja Miejskich planów adaptacji do zmian klimatu – MPA – nie dotyczą kryteria: 1a, 7, 8, 15-17, 19-26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Projektu typu: Wsparcie opracowania/aktualizacji Miejskich planów adaptacji do zmian klimatu – MPA (doradztwo) – nie dotyczą kryteria: 1, 7, 8, 10, 11, 15-26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>
              <a:lnSpc>
                <a:spcPts val="2398"/>
              </a:lnSpc>
              <a:spcBef>
                <a:spcPts val="11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600" spc="-1" strike="noStrike">
                <a:solidFill>
                  <a:srgbClr val="003399"/>
                </a:solidFill>
                <a:latin typeface="Open Sans"/>
              </a:rPr>
              <a:t>Sposób wyboru: konkurencyjny/niekonkurencyjny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3" name="Tytuł 1"/>
          <p:cNvSpPr/>
          <p:nvPr/>
        </p:nvSpPr>
        <p:spPr>
          <a:xfrm>
            <a:off x="3830760" y="368280"/>
            <a:ext cx="68608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002073"/>
                </a:solidFill>
                <a:latin typeface="Open Sans"/>
              </a:rPr>
              <a:t>Uwagi w zakresie stosowania zestawu kryterió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rostokąt 8"/>
          <p:cNvSpPr/>
          <p:nvPr/>
        </p:nvSpPr>
        <p:spPr>
          <a:xfrm>
            <a:off x="3935520" y="1189080"/>
            <a:ext cx="6580080" cy="82440"/>
          </a:xfrm>
          <a:prstGeom prst="rect">
            <a:avLst/>
          </a:prstGeom>
          <a:solidFill>
            <a:srgbClr val="ffd618"/>
          </a:solidFill>
          <a:ln w="12600">
            <a:solidFill>
              <a:srgbClr val="ffe6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25T08:11:05Z</dcterms:created>
  <dc:creator/>
  <dc:description/>
  <dc:language>en-US</dc:language>
  <cp:lastModifiedBy/>
  <dcterms:modified xsi:type="dcterms:W3CDTF">2024-06-17T09:52:21Z</dcterms:modified>
  <cp:revision>1</cp:revision>
  <dc:subject/>
  <dc:title/>
</cp:coreProperties>
</file>